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1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39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3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521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</p:sldMasterIdLst>
  <p:sldIdLst>
    <p:sldId id="256" r:id="rId159"/>
    <p:sldId id="257" r:id="rId160"/>
    <p:sldId id="258" r:id="rId161"/>
    <p:sldId id="259" r:id="rId162"/>
    <p:sldId id="260" r:id="rId163"/>
    <p:sldId id="261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" Target="slides/slide1.xml"/><Relationship Id="rId160" Type="http://schemas.openxmlformats.org/officeDocument/2006/relationships/slide" Target="slides/slide2.xml"/><Relationship Id="rId161" Type="http://schemas.openxmlformats.org/officeDocument/2006/relationships/slide" Target="slides/slide3.xml"/><Relationship Id="rId162" Type="http://schemas.openxmlformats.org/officeDocument/2006/relationships/slide" Target="slides/slide4.xml"/><Relationship Id="rId163" Type="http://schemas.openxmlformats.org/officeDocument/2006/relationships/slide" Target="slides/slide5.xml"/><Relationship Id="rId164" Type="http://schemas.openxmlformats.org/officeDocument/2006/relationships/slide" Target="slides/slide6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81B-9DA9-48DD-ACD1-6397B76B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7FF-1C94-49CC-9699-238912B6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6B9C7-0DD2-465F-B063-9BD3ACB9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63AB478-FCE6-46AB-99FD-6731FB09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2FC2D05-570E-48B7-A56E-E2668A8F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9CBB18C-81A6-4A59-88BE-BC05BCC9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C17522B-CC08-4E6A-9490-CB6B2A8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5865945-A12B-4BB4-BC7E-FC9EBDB9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09DC69B-B1BC-437D-9A36-2B007C9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36452CE-4D1D-49ED-B751-457777DB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B6CF701-3470-4641-ACB2-8C71465B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CCC278A-6B8A-40F9-9E57-0C71819E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3DD3CF1-5283-48B6-828E-4742143A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F55C-03FD-47C4-97D4-6D692F4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2E444B6-BA38-4FB9-A873-CD22D05E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A389D4E-BA9C-415E-8469-ABAB59BD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54336E1-DFB5-4283-8A6D-175AD50C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880F4F9-8C8A-4B10-A9BF-1F907456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A11803D-81B1-44F9-A083-0B8EE31B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4B16856-DC9C-43A3-B4D2-9D8039DE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C27C89D-7725-4E9B-B6EB-4B98549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93E9A31-7A0E-43F1-A2CC-3985C1B8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4CFC5B9-F995-43A7-9872-5316F58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3020035-2F40-459B-AAAE-A197C4D0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4AED7-7BBE-4E8E-A8B0-95057A0D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BB1370B-97FE-4E2C-9751-603A536C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95D07D8-0D77-479B-8EE2-A973058F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935F4D2-F490-4583-B7AC-DDDEBA48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B76C87C-50B3-452E-93A9-06350D6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21D356B-2B1A-4FA2-9354-FDFA6692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41018DA-C3CB-4AE2-8500-CF3D4BE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3DA279E-4B86-45EE-966D-FB8CF52E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B783F7F-EA79-4415-9662-64AA056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92577C4-EBE7-40E3-98ED-9432C14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C991ECC-D23E-47DE-8A78-A5089BBE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9A117-7F41-461B-8AA0-DF24BDC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ED5D1A6-C786-42B4-BB4D-650BD76B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FD0BFD8-DC4E-4EBF-A333-DC0C0562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B1E0C17-4C39-432D-99AC-14AC4ED1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F2CC940-C795-4544-8F88-F3862885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7DF56E8-D8B2-478D-B6CD-AE5607B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CCD4884-2C9A-469E-849F-FFA5237B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F98802F-029D-4568-B8E7-978C9F6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4767E6B-3D3F-4E23-844B-3310311F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90D8CAC9-B5A9-4210-93F1-1C7128C1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16F55A9-D624-4438-A766-EE88FB70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C3E39-5B5C-4F87-972D-4EADB51F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9FAF357-8159-4D4E-A804-459353B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1DE9B76-DC50-4AA7-8265-ADEFAA4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9E366BE-9D02-42CF-B082-2422BEF8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AC5579D-B41E-4A6B-82CD-F0ACBA30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17ADAC3-CFA7-4CA6-8228-B0B7F42C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634C2DF-A913-42D5-AF2E-4BC3BC2C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3E5CD2A-E88D-46FD-95E8-8C4CDB2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ED676BA-346E-4118-917B-94E4726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1D64744-DB2B-42F4-972D-93770BFB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54648F1-480C-44CD-8C66-C23630EC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262FE-7C57-450F-A773-2C022E7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12BD0DD-CBA8-4FA5-8882-3C6F5152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410250B-A336-4B03-8856-C5079AB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5EE8520-2758-4B0B-8C6B-26222BC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AB4420B-E848-4A16-9DEF-625DBD5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50ACC740-9F01-4B37-84E3-867B35FF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E73A6B7-8F2C-41E7-8D06-33849979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EA192E6-349E-4F64-9D80-664724DB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B047C70-E2F6-4D81-9654-6CB0A034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9E4885A-6C9B-4950-9BF8-723C339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D7B5DD0-86A9-437D-A566-74520757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708C1-67DE-419A-9ACC-E49C62F9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452925B-922D-455B-8B44-7FF416F1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013328E-C3A5-45ED-8224-F1ED5FD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0A59AB29-15D5-4AFB-84EF-F5660E48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8BDE845-44C0-48D9-83EE-BA6BD24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5D6A867-C3E3-43D2-9EF8-CC6E3A0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6AFCA78-652D-446A-85D9-42334878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FAC0696-4C74-4A9A-B287-BB1A16AA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7250F25-08DF-4E59-A0C2-8A0DF7D7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F933D10-05A5-4FF3-8DB0-5520A9EB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FE6CB10-9F0E-474D-B9AF-04D9C192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949EA-7617-4495-98D8-E5B60D46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E058BC3-91B1-422C-A77C-DDAC51AE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311E40C-E0EC-4715-B177-E033CFA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BA02B59-5292-4E69-968D-BD3DEB9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C6986CC-91C2-419D-AB7A-887F8214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85F00B1C-07CB-4D83-B458-14DA6D0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0B7F174-C32E-4DAE-9B1C-C267DC2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798B62D-CE31-4DA8-B611-8890E2B7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9F3362C-E535-4020-8183-DF361D8B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29D0E7D-1064-4584-B60B-B3207E5F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0548C3C-EC1C-4752-9658-C3E705B1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94E0B-F496-4C05-A46F-5F574ADF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68940D5-30F4-4CCD-B0E8-7F559EF8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C53AF68-B1EB-44EE-B486-0F7645E9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33E19DC-EDE8-455C-8CF0-D3BC0022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C7D07BE-A9F6-48A7-8BE4-F419B70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C71A8A1-1C58-4A4C-8021-B8AEFF3A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8F622B7-F22F-4890-850C-F2C9315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91F5BD3-F721-4F5C-9D2E-7675E6A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B2AF59D-55DB-44ED-B5C6-E9EF267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EFE592B-394F-4347-B235-F818EBBF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84936C6-7B29-483F-8642-0501DEB2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E7595-28FA-4F10-90B7-D7C8CEDD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104BD0D-322D-491F-B6B1-0694DDB3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2707022-F379-4209-A2DA-757FEA53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72FF871-45EA-46E2-A55B-059A7335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8704BC0-859A-4905-9434-1E4B9CE9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6302357-4881-4196-B122-515C073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EF9AC68-4CD2-4120-A5D3-7B168FA6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B27DA6F-3F33-4EF5-A6AD-4A93F7A0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7214660-4B03-4D88-A9CC-F99EB2D0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BD59F31-7E1E-456B-A43A-19BD1B97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0D30F98-5001-463B-96E4-D0FDAF6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1DC-9608-4AF4-9F78-38E0A541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95005-3D54-44EF-84B2-1DE886F0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F6D6CAC-8E51-4E02-BC40-87703DF9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84662EB-66FB-4BEA-B6F2-BA4D7AC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CED5BF1-CCA5-42F5-85E6-079AF8EA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5114102-21A8-4DBF-8F5C-2743B826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ADBACC6-5FF6-4805-9042-41ED76EA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EF6E23B-6C81-47B7-9638-570BB15D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484E84B-FC63-4C3F-82EA-3DBF9FF6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440B10A-75E5-4401-868B-BA6739E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5FEFEEA-5091-49DA-80C0-B9A60E70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74661A8-0FC2-44AD-A6D6-4C17EFA9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39E64-A692-417D-AA2A-9CA86F1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548567A-EC3D-482D-98BB-0CDA2E92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6A33625-AC7A-4035-8B62-36901E02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EC6E90C-AFA6-4D46-867B-C1CFCEC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FF443AD-98D2-45C7-A8D6-2ECF574C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341F179-2721-4B82-A828-9F5F2DFC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CB1A504-D4FE-4BFE-876F-980D5BC8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4AC0066-5FDF-4881-B6D4-90530226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E72BC3E-2F92-484B-A2C3-589494CD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35D9F14-F7A5-49E5-B8D1-DDDC55CD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9968E6D-F7C5-460C-956B-C7270DFC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413EC-46E5-4EAD-986C-AA493BE8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258DDB1-7055-419B-B62A-F59A8D3C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DBA0287-9BD8-432F-B4C1-D869FE24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CAB0B0A-BD3F-4799-8A34-A62AD75D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0A3EA25-B21C-4E53-A56A-E67D8109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33377C6-9FA5-4B87-B491-FCCED59A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C2D63AC-14EA-4363-B480-70579B60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68EC3FF-81F1-4AEB-AE51-0EF55CC4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B7CA179-E5A9-465E-857F-8779041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6931467E-5D9D-4E38-932D-9A8ECEA7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E5D1E0B-D1E9-4684-AC16-34970164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44CFC-5D03-40FC-B4AD-B27A587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47349D9-460A-4964-B387-1D384A33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07963BB-F371-4451-879B-6FE14F2B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62EEBE4-1632-479D-A216-6AD5014A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59ABBAC-EDDE-4AEA-85B1-7A37DE5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08B7666-E96B-4E13-B059-7F52C14A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235B48C-B5B1-4B0E-9415-95D95D8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CED0EEF-97D0-4172-B153-4E285CBE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8BB0177-8AB5-410D-8828-5230989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4C38E85-989B-43E1-858A-BCF8862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D001FA7-F96E-4F42-9176-14E40641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DF396-90F4-42EF-873A-98E23D5C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5FC6C77-A170-4457-A38E-47946ED3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D2CD4C6-3331-408A-8C88-067C1A30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329E6CD-93F7-4691-B8F7-89C15102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DC4C5EA-514B-4B0F-AECC-BCC7E18A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79FC774E-03C3-4188-81F9-A71CFD9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33037D0-EA64-4BEF-A7A2-E068B723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63471F4-BD50-4A41-B600-6A1E21D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C312D4C-2420-4528-A705-FF07425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E2EE53A-FA5D-44D7-8228-FADFBBE4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7DE42D7-D16C-4E40-89F6-80E0629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ECF58-B5E6-4B8D-8F2D-C3C5F1F8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E2B56EB-3DD6-4F35-8098-268E2BFF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5F1BD34-644C-46CC-8388-1B611691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B71A065-6E02-4A73-A5A1-35F7AF89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6113537-E827-4BFE-A69F-E6C7103B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DB3A1C9-B811-4B91-8620-19805D89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96C8687-BB88-4D32-86F6-0B00E28A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51E8E3F-3757-4CA5-B021-8AF31BFD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E96AC51-1083-4A3F-9DA5-6369B7FB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CA74684-4FF1-4A98-B84D-938CD6FE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E6F456D-772C-4909-A0C1-82EB6CC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84B3A-832C-4BC4-88C1-A2D39BF3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4F7666D-6B64-49ED-A288-00EC0B59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B9FB386-A9FB-42C8-8315-304C90E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4B98520-553B-4A2B-9BE1-EFC1510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F975909-4383-415B-BE41-A9C695B3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A249A0C-E15E-4C94-A19A-37FBCDC0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5530568-21AD-4900-8775-59837339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75CAA08-6C89-4C21-B67F-2E0540C9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F568BFC-6E68-44EF-88CB-2787B06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A30C89A-41A3-4C54-BA3A-EF60C46A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C71543F-5FBF-4C7B-942B-DDBA16BB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16218-B1AA-453D-8E01-54FB5E78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58AA031-64D5-4490-8C48-D858CDA7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15B2AF6-2491-415E-BDC6-6629D1AB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7F801C0-A1A1-4304-A03F-E64496B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161AB84-5464-4209-8E6A-8AA2361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901CC70-D6D4-4D34-9679-A3AEC8F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7603EF6-B772-498B-8D8C-1C2BAA31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056B5B1-59BD-4949-944F-85F5A335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DBB67BB-5A1F-4C88-8A52-15334676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6564F4B-D9FA-405C-B104-11177F2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05411C3-ADC5-42E6-A257-B7E5BD0C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2B9DE-E8F5-476A-B05B-6C8ADB8F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06E844F-D941-4978-8C69-70732062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034E286-9DE2-4FC1-A8A9-512D86C5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D5B439C-939A-4C96-9DE3-294125DF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B106FEF-8D2A-440D-B977-DEB542B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FC1F644-923C-4485-8DAE-3217A9B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1328F3B-5C65-4C9B-BFCC-193714AA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124F1E6-D818-44D2-9E48-502BFBE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D6C0506-BD73-4F20-A35D-FEA49B30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96782EC-693F-4996-AE28-B98D2D54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D7FF375-63BE-4599-88FE-3B6A548B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9A9F1-EA34-4937-B5B0-423637A1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8E303FE-85FE-498C-BA9C-16BE47F8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797275A-E765-4F69-BC84-B7F39D14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5B94D26-AF8C-45B8-936A-CDB55B52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8F9B4980-8DBF-4329-9561-58B2D165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087B91A-C6E2-4089-B3C3-228519B9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F7A2134-E64E-4E0F-9FB9-26B0E9CD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4216C19-ECAB-4D9B-BD5B-BE7CC8A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598C817-C60E-49E9-B2D6-BB95B6B8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F3D52AE-5AD4-4374-AED9-C5D17EAB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AB97FFD-5221-49FA-8ADB-7D79B9EA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71B-5E9B-4D0D-B287-794C21D6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58E0C-0288-4259-84BF-E771E495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6BF7CC9-1ADD-4C7A-9359-9BBEA953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BCFCA63-A596-4409-8EAF-BDCF34B5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174F76F-9F53-4AA4-943C-C09BD92C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030ECBF-195B-445C-8F95-08C12441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774C54B-5B5D-4644-93B9-CE6518CD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E7EC743-BF37-4E38-9C1D-04EB9F48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4E00EBE-96DB-4C1D-94D0-093F6CB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80B64D6-B5A7-4E21-A5DB-827E2EA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E7F86EB-E41B-450C-B92A-FD5E6912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8FDD6AE-C1A7-4A2F-BD73-9D09057D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8F943-40E7-470C-9532-0DEFEAB6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ADA5F54-4CAD-48F0-BDE1-43146540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B0A4C94-D33C-4517-9B91-436EFCC4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0736527-F700-408E-A830-957599FC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193831F-2A86-4ECB-AA01-6282D4BD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165C888-BFFE-4FA5-9B29-D6CACCFB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2E12104-001F-4A80-9874-CC6D7DC6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3F95E2D-323A-4A87-BBB0-81EA6A79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250719E-CA60-409E-932D-F5FF307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C48A655-002C-46E1-A98A-8F066A90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214835B-DBA6-46F7-87E0-03C36E58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943FF-8BAC-4001-AE4D-06241918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C8A27EB-DD39-4E95-87CD-0F4E0A66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5E97107-95BD-4CB2-B0B9-4C04933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E8EADCA-8225-4688-B159-196810C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9C578C4-8DA1-4EBE-BC5E-4116A044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6C1091D-79EA-4DCE-B679-CE453768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DF9E63B-0F52-4950-9FD3-4A5377D8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2B97444-A6B4-4579-B237-8B7509E8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002C2D8-E20D-40FE-ACBC-38944B95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8FDB454-C1D2-4300-B9CA-A54A4411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AB51068-6A02-4800-B859-EE25E87D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DF075-1796-4B59-85A1-D351D7B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EAF0D4B-4EA7-4A0B-B74A-E8E654A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C5EFC91-A4DD-471C-A96F-9725576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DED0922-66C1-4232-9939-5EF0AB0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C15CC62-1F36-43E0-B893-782867F1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D33E55C-7952-4842-ADC4-DFC8319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2B30A17-0F9D-4CC5-B1B8-7D0EF1DA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A266EAC-EC46-4B84-8FDB-0BC599F2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FBE4A27-759D-492C-82EE-1EAC3824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5EB3827-BD16-416F-A63D-33397469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E7EF425-02BA-430D-9C51-00CEBA15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8B8B5-BA31-430E-9E8A-09224AEF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034EB71-42FF-4A73-9677-487FF230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C4A60F9-B0AE-4CB6-AC40-6FD89D5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C821D25-BF4F-4DE0-AE37-794CE12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EFF7C0F-3DFF-4D68-8C9C-9E0CAC50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FAF56FC-7778-4826-BD52-E276DC5F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1DACBF0-1E88-4AD8-AC70-D83732C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A19E40B-0880-4FE2-B80F-886C6630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F1F13AB-0942-49ED-872F-AF8CD905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F3A9372-77C0-425D-9E06-08B38308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53993B3-309C-49A9-81EA-D0C3D2D5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5394A-C0BF-4542-99B6-E7E5D11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1BED5A4-7203-4A07-9E2A-7C84795A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7EC50A1C-2877-4AF5-BCA0-A9512CD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FC69E75-F91B-4DE6-A9CD-E6F30D4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2D475F1-E383-4B0D-A973-375CAC15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C8E6251-7493-4EFA-A163-26700BC9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31CDD8A-7616-4149-B75A-F087A93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7233FBF-3F79-40E9-AF17-8019437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AFF5E18-369C-4274-B970-9CD57DF8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69764FE-C768-4DCD-A374-854D86FF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07C8377-F1BF-4C8F-8CAE-6561721D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FB1A-98B9-4FFB-AE34-E7FE6248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06F4311D-A7B7-457E-85E4-57C0BB4B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CB9FBA0-B7CC-4089-A88F-7BA54ACE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73D2160-C91B-4D45-AF23-1484E289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4328717-95BC-44E8-96CB-BE2E3E53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48241FD-6486-479F-988E-82C8927C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0A14171-8814-4418-8F23-A9F52838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76EF27C-0AC1-4C87-8ED7-64C4960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CA61EC9-857E-4819-A73F-9E7ACFA5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FB4AB63-9B52-4809-B608-715BFB9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C31F603-5057-46CB-8526-ECD88EAB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D1190-9163-4708-92B5-A5DEA5D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54B1695-F613-4EC2-A5DB-62C60B0B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7B1F52B-F724-4E26-B788-4E107C38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868D4E9-915D-460E-A921-B0C81A17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6760DD2-B262-4D38-B7F6-0A9AE6AE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94D0B93-09EE-44EC-B30F-793D64E7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49822E8-4CF7-4AFA-B910-42C3000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BA674F7-32C4-4B3C-8431-922F0A1E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31FA0EF-F59B-4396-9F02-C1AF67D8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9B70928-D7FD-4CE8-ADF0-0823E497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3B87CEB-15B2-4D81-8409-0CFAD4A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E1B75-0301-4EEA-8C3D-087A740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CCC8384-7D96-49B7-800B-436EB19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965FD85-D4D0-4684-BD49-0829ABB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6A12F7D-F561-4412-A610-AA17DE58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C6CBB78-BB1D-4128-B346-53D22E83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F2C1A54-34CB-4E00-814E-C499FCAC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644F6A6-10EA-43B1-BFD2-3B91EAEE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0376F35-E795-4738-A08E-1B18FB76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566D63C-0BD1-48B2-81BE-3EC7A045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63B34CF-F34F-4274-AEA9-6CFBB351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0F46B58-D4A8-4082-85DA-4036AFF6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44F03-04ED-4647-B392-9EA4178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54BDB44-CEA1-4441-B5F4-1C2E3F0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8D7853D-37A7-4CE2-950B-98A3E78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F9A3F16-E6D4-45FD-B3C9-E091764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11EDF59-4B84-4631-BAE5-9ECC6F6A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4B02732-C1C0-4412-B9D0-52FE1247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6BEFF97-9BB2-4B21-921F-B5EF3B83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3B38491-C92F-4532-803D-6835F3A7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C84FF77-372D-4F9A-B294-F9243658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93EADDD-B1C2-4327-A08F-3AFD3233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C938ADB-5FF5-42C2-AC66-4E66BF40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D5C3-175B-4B0C-902C-6C9FDE23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A8A8C-BEB9-420B-8AF3-E41E7EA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5E3707A-663B-49DD-8C59-F85A1630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7882C07-3B19-4D48-B8B4-50402C32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397B9F8E-FAA1-4A9A-AB2E-90C3596F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EDF4249-03A7-4C99-92E2-A3AF82D9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2DC5A51-100A-40B2-8D13-B76440AC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785B660-0E4D-4CEC-93E1-A3C8950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AB45AA9-E916-4B13-8ED8-563EBC18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CDAACBFE-6B93-4230-95AE-6B4BD49B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AB9AA52-2EA0-410B-BF39-ADD8A8A6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05CE995-53D7-453A-8B8A-5ACBF10D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950B2-0B1B-4D60-ACF2-6251ADCF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448B6BE-C92F-46B6-A3F7-F24EC240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2C09AF5-A605-466D-830C-CB3C3F0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D934E5F-F3B2-4BEF-8291-F37BCB5B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39A62DE-F821-47E3-A000-B6ADB31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7192AA5-54AB-4016-BED1-2778A53E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9E6D3DF2-9062-4D4A-8B1E-529D168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B6761457-50C9-4800-820C-FB4160DD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90A376FF-FD89-401C-9FAF-03A63BD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099A7126-830A-42DC-A13B-8E7DE17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7E2B6AC-BFCB-4E0B-8594-AB3220AD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8070B-2B38-42D4-8697-914F1E08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84D7310-DBE4-4CCD-9045-8BC5D295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86F346F-94B4-4845-B2E3-7A8AF7C5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CDA7D4E5-B39E-4BFE-8160-874A9A4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D6D80C2-1A98-48AF-87FF-328EEF95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29C70BD-5FCB-4B87-A0B9-FBAA758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C6C6ED5-8C3F-4904-82DD-EEEC7D6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1B8B721-6831-4D1B-A6A7-EEC5139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ADCE637-ACE3-41D3-A7EF-660333E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ADAE93B-94C4-453D-98DA-C15D4F6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81E7452-5929-4324-87C0-A8601C7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C673C-C5FB-4711-8F50-729EC2AF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C3196B44-C959-4030-A004-10D3F3A9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F0E46AD-AB94-478A-965E-66407529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09715FD2-58F1-47BA-8124-F9884E9F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008C5BA-2240-4154-953C-E5EC81A6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26B1A81-AEBA-416E-9552-23EC1D1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EE6A109-58D8-4FED-8AFF-E598F6BA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2088FD7-BFF2-4906-B2A8-B98C4D0D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3AF129EE-86AB-41E9-BE86-11FB2EAD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DD1F4E8-562E-4055-98D8-86405CD8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6E3D154-7418-45C5-A54B-1FE579C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AB6B6-529B-4787-992A-A1756150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07B2B95-BCF3-4EAC-8766-601FF47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2608A2DA-2D0F-4080-A797-E02FEE1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CA724A5-8BF8-49EA-9799-D38F8AFA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BD14C61-4B82-4DE8-96C1-E9B80676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65823769-D65B-4BDD-B12B-522999D7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73CE376-61B3-4C54-B244-509C2BED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863C798-DF6A-479A-BD4F-B58D7EB7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F5C7622-E02C-44AA-99CB-7D6F6141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46246C6-0F0A-46F6-8FE3-B1476663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B655D1B-2234-4E8F-8EC8-60CE5705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0360D-633B-48DB-B79B-705F28B1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C3E2C72-60EB-494F-9679-BE31BFA6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694460B-C2E9-40B7-B835-87DABD3B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5745528-B284-4AFD-BE5F-088430D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DA705EF-2A63-4F29-AABB-2A07B4C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218943E-60A4-4D33-9340-8ED2FB37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7B87BAE-ADBB-4FFA-A31E-027A18C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E74BA4F-D341-49BB-9AEA-68EB924A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06E4984-87A9-4DE1-87CD-7583CF0B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F89867E-ABD4-43AB-9FC1-C79FC9D0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46D06E0-53A5-448C-83F5-78D0F97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585B2-7ECF-4DC9-A7F6-8C5DF577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786F449-736C-4F28-872D-337408AA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F452214-F0FE-40C7-BF0F-86289CED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F1B8F0F-64DE-48FC-BF42-D5830BFA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FE13EA46-8B41-48AB-941E-6E8AD5F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215F4DE-2CFF-4EB0-B231-09E2B08A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DDB4115-51A6-4C61-8363-CBD565B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4790F71-062A-46B5-926E-F76AF928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8BC64AF-3BB5-494E-BC2B-B73513C9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A873656-C138-4F92-B820-63636CE0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9D3FF23-A4D7-4042-982E-2B8951D4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57CED-36CB-4AA7-A8B7-3B260413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1AB2B3B-F0D5-45AE-BCEC-2A6C6ABF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16A84D3-10D1-4872-B074-F6E2439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8C3295E-8743-4A98-943A-CF43434A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071D2AD-0F3D-407F-A9FC-07DC03E4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07E6AEF-6D1B-4B90-BBE7-156AF99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37A626A-6D8F-41FE-810C-DFD949A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41FCC2D-829E-4F50-A468-A83E4C3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A3ADF1C4-1D7E-4ED7-8DF2-7721B97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F979418-6A05-4F8E-9133-6850E001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C96A9F8-6A0D-452F-8B06-AB4BC12E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EA257-29EE-43EE-A9D4-37CC7BD8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EF9B02C-8368-4DF7-8C62-4FBF607E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78E2157B-8D75-49C0-86C0-27855EDB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DDC60F7-C035-49E1-91AB-35DBF7E6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B5EDA57-7609-4DA1-95A2-3263BB3F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43EAE7AC-7F44-493C-A97D-2C73ECC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AA9184B-7FAA-4D70-BC5A-5E1FBADE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9EF5C97-8EBC-4FD7-AF35-1A0732D8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08FBB18-ADFA-4674-9026-DFCF673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BCDBD18-AA49-4EEC-A8EC-17377F42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EC00C15-664F-4EB6-9B35-68ED79C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87B9E-EA90-48F0-9C84-0B64CA6A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1C77F88-D278-4F39-B60D-8ACE9F5E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4872A90-B462-4FED-8018-FBE8BD27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18267B5-B217-4CAD-BE64-A95DE17C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59E71F3-45E0-48E5-A254-B5A77DC2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3B6ABBF-E2CF-48F5-AD5D-1BDF5B1E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40F3949-3032-49FC-803C-3ADABC8B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72C2CBC-8433-494D-895A-44926478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4795078-63B0-4F47-9052-053062CD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BF25B8A-3C67-4008-B065-31EBB631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84914BC-B0B6-438B-9259-C98FECD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6F34-A657-4A75-BDF4-08213A73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4454A-BACA-4F3B-9F3D-B1E7096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037B888-5E76-429D-BD8C-CACE118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52B2C82-E775-496E-B8E3-FB81B325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388A1AF-CD81-4C27-A95F-A0100FF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ACD06DA-C740-4110-B101-43A1EE53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20F0F2E-2F02-4149-B92A-90D1D780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C5C2219-F73D-416E-B717-3B96B406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011048C-6713-4F0A-AE59-34360F5E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E98C3A1-5688-4195-BCBD-111702C9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5365A96-71E2-4E43-8649-EBEF3E8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B1F874A-F683-4EF5-BC3D-93C827A6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B5996-B33A-4DE3-A46E-5AFF36D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C79BB05-D724-49E6-8198-E22C7EB7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C22F1EF-55AA-4E2F-96C5-746ADBA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24CA3A9-A2FA-4F83-B09B-01B68BD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28C744B-08AD-4972-AFC0-9A1AAB1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7701099A-0D61-442D-B0E4-EF339F8F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52B2688-ED32-4CA7-A45E-3E04A823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FC6E8C9-E505-4E45-A7DE-296F95B9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69A432F5-95B3-46E4-89D4-DA8C7A73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10E10F29-EBB8-4DCC-9864-85180DF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56689EF-C549-44A3-9028-8F64AC0C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3F0CA-E303-48AB-88A9-97DE455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C0E8D52-5BBB-46F4-A495-A3D5909E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A947662-227B-495D-B1F5-7AB4AE83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7C843E0-926C-4ABF-9653-8D18D33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5C954DB-428B-47FA-81E7-D765C9E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CCC54BCD-63CE-41D1-B5BE-E5A6C226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DCC492D-7D15-422A-8496-FE7E294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98990C7-FBAE-408C-90C9-0D3F78A9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11EB187-25DF-4D2D-8697-3CEBFDC0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D5D20AF1-677F-42C9-BDEE-38F1FDC3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6A8D6BFA-8002-4649-A0C8-D426523A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F735C-E656-4C18-B5C1-F4C08DA9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4281956-24BC-422F-A053-9F15945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8C46E3E-7E2E-4602-8758-3223298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53764E5-8774-4381-B64C-820E007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D5696561-F208-4E47-872E-A987C6D2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2827895-4BA1-4556-B651-6A8D3347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E638435-2386-43B8-9CD9-E6DDACD6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E7B756E-00C4-498F-96D9-19A9F5E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C6A44DFA-20F5-4A30-AE44-71EA5548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F05F8A5-26F4-4C83-ACFC-16600049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4439879-3F33-4C64-9B2E-D09D4259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37615-B0CF-4269-99E3-5A140B72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9793F37-E2C0-4F24-ADCC-7FF9FB12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56D9E49-C40F-43B6-9A4C-8D16E054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4B1447B-ED51-4A04-8CA1-AC96A8F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03282D8-9F94-4991-A676-236CB1B2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6B3A33E-B686-48B7-A5F8-C56D1C8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CE459F9-BDA9-48DE-BCAC-316861AB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01D5BB9-F18C-4C90-B903-EDBDEDF1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24674EF-D959-489E-B2DE-AAE71C9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D613808-5612-4796-BDF3-B858067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D060375-905F-43F9-B0C9-102B0F77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B51D2-A7F6-49E2-895D-3B85BC0D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15D061A-0E3C-4E27-B1B5-7D38B2B3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29A7F1D-8939-431C-9E54-170D169B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1497CA6E-D5BC-4EE3-BD3A-AB9BF9A6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E3F133D-6CFE-46A4-A6A8-D21EE5B9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3C07CE98-7C6F-4E3A-A352-5A3083E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6238A95-7BB7-4AE3-9FF4-FF827D58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391CB71-44B5-4A66-BD10-C6868808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1E0168D-1E98-4147-845F-9B05F883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F9D36BEA-6643-4F00-A5B2-DCB1D22A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C83BB61-9F33-4F1C-B8EA-07F5204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43A07-B93A-4E4F-BBA8-1C19D3C5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886778E-E7D5-4E6A-B84D-2A092AA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35438D44-681A-4693-9550-9EB89F1A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66D1DD3-5041-4604-A2DC-2FC07120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1410BD6-6CD8-48D2-8046-E9241711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E054F26-655A-482E-B2BB-4BBA712A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F9C8C7E-9734-4277-8BE9-DDEB0364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FCB44B0-6415-4AB9-96E7-3E597BBF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13ACAF6-86D2-42EC-8A73-9B60FCDD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55EF852-2C55-4196-BD3A-558E09DA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41A705F-DAC1-46F3-96C0-CCC1EF82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503B3-C830-41FF-9394-A233DDBA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B6540D4-4408-41A9-822F-DCB1474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ACDB619-C0F0-475E-8B94-0A3ADEB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8E4C42E-933F-4DD1-B25A-0248835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3ABACE6-CC49-4975-930B-912570E1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7130195-6E8A-4EBF-AD56-C88D03D0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E29DEB0-93CA-4BBF-876F-AFA6F92F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56AF582-0A0A-4C98-A175-E07304D4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3474805-DB04-48C2-B1C9-05645F74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65588EB-35EB-4195-BE3B-E40688AB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A59F7D8-38C6-447D-8280-4789D125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7072A-E92E-409D-8F0F-2CCA819E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1597953-6FF4-4F4F-8606-EF9D6BF9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77984CE-0413-443E-89D4-B4EE93AC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4419CECC-F1B6-454F-B1A2-85D3AB10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765931F-7841-4B91-95E3-70B1B781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B9585E2-BD30-4280-94F9-BFC1E364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9BD6C5D-72D8-4A23-8C98-26DE1C5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BFF2657-3ED0-4F4D-9C48-FCB50975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8A182C6-0CA3-4FBA-B20F-11440D2F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6D1122F-AE8B-42E2-8E74-E3056D58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B1FF1F1-F302-4FDE-AB7F-DE2FB925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9E8912-5E22-4D27-A477-60BF37A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960AF6C-3E9B-460F-A444-81E47544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EBFB7A0-68B3-4381-8DF1-B555C81D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BCD19CE-EF37-404F-A140-8C6558E9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8A48725-A6ED-4201-869B-DF03588D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1A236B12-8B25-4686-87DC-4588FCFA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21FC440-6900-4031-B2B6-5603DAA1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3AC47B5-12DC-4367-B599-824C1ED2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EAB8F8D-8CDE-457B-8FD1-349BA1B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E4ADC07-35A6-438E-9782-C2AFF6BF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97E82E8-4B24-43A1-B485-5CAF0AD0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C0DC-E169-42FA-9032-1749018A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3A638-CC23-4E65-A89F-4A202265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A312884-4577-492C-B4D1-B590C66D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8F4427D-3D38-430F-BFEC-EE70A178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C0866A7-7D6E-4517-B825-4B0F8D0B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C138A83-514A-4063-8483-8E052FAB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A0CE35B-FC8A-46A8-B875-B104185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02630F9-1F67-432E-9B53-5AFBF563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72B80F41-9E30-4DB9-8B5A-AAC4C62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4C0183D-F6CD-4234-A89B-3352001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F7C04E8-5D17-482F-9797-A742F5A5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7609231-2E50-4FD2-9EC4-6B36836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58695-CFF8-4C9A-B91E-EB45ECC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16DF650-E8C3-45CE-8FB2-FD0558F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1A17FC0-D258-4061-87C8-EBFF7DCA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D1BF174-19B2-46B3-ACB5-9AE70644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A514AE0-1A01-4F73-AD59-6E258764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94A2EE8-EC90-4C2E-A070-0CF068F3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379D89E-94AC-4343-BBFB-2DACD18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EEF5B8D-56C8-419C-A482-CE87CBAC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524FC2D-3A47-4309-928A-A88E6C31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14F61813-DFFF-49C9-976F-19786FC5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8FD04C5-535C-4EEA-BCB3-9C58B33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1F3C4-22E7-402B-9EF6-1FE0E40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D37DC54-910F-43B0-815D-065ACDFA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34175BA-5CE2-4273-A846-A3E2952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252CB79-33FF-48AB-BE30-61EEDF0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DC467A7-24A7-4549-812B-D0205083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C8F57F4-6F1C-48AB-B6CB-AE306755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81219CBD-6A7D-4EE6-92C8-544EBC49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C1A82F0-912F-47CA-8ED9-E83A3BFC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4FAE33F-DEFA-41D7-B605-B00CB41C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976F839E-969D-4E66-B4AE-C09DB786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60C1133-968E-4DC0-B4F7-70114908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14C0A-6D74-4CC2-A499-C8837F1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321441A1-9532-4F84-82C8-78A09F32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769BA12-AF5F-4811-9C78-148EA833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6F8E22C-04CE-447A-8EE5-881238B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AC9777B-E47A-4776-BC13-B93F0CB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F95D569-DCD3-4259-881D-4F84E230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53AEB1E-3A75-43CD-8A10-663E7B7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954085F-B7E1-4A22-B2A1-72570D62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BFE0F32-4EF5-4E31-A62C-2CDF3E39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E4F527C-699A-41CC-A5C7-95E33F05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33360BD-5E12-4A93-A56F-9B551A0B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7C6FA-195E-469A-B147-5EDE444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230DEC6-390F-48C0-92BE-2C9209A2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BAD6C30-B672-4D41-855C-9207CFA7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8A1D320-16F6-4788-8487-C0505BB0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F48792D-26B9-4278-A85B-556D1FDD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1C85CBB-5515-4783-A001-BF3EC706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2F4A793-FB60-47A5-B4D9-46095AD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FA36320-EC9F-4721-8E35-A57D6189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2969FC5-2B06-49EE-9757-2DA0E98A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5778E32-54C5-4F08-B502-8137DE5F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DE257BB-02FA-4CE8-B64C-5ED311E4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C061A-1B8D-4186-A4D0-ABD700AF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F49B484-1EB8-4E50-9873-21FA6187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2025C080-BDF7-4BCF-8FEA-E431D48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FA89EFB-81BA-4F69-B961-BF9C92E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19F098C-E26C-4AF8-8617-F5DDB49B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50690AB-B1A4-4E47-8EC9-9BAB56E7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4ADE80A-D9A8-4153-8CF4-3A8498E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F956AC74-88B7-45FF-BF49-3C3456D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EBB678A-F415-4D2C-B3EA-7D76363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0A05D66-40D2-4453-87EA-E65E8B16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B1AA139-81E1-4000-B04C-19BD65F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4E42E-2BF5-47D0-9D7D-75587562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2B72CC5-28A6-4771-BB49-FD377506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9C27598A-E91C-4595-AFA2-4074DF00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E872DC5-54BE-4EDB-8959-EA9E902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A58CA0B-A1A8-4683-93EC-91924426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A0D101C-02A7-45AE-AE9A-669F2EC8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032EC1E-6304-475D-86AB-10626E69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75C94AE-4847-422B-A041-000BC049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4DDD2FC-42D0-4996-9B4A-3C2E4A3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7F88D04-7311-4CB5-8946-FA80B83B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4E82390-5E54-42BD-8990-F192C2F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E8BF6-8BF6-4982-9E52-B3947D71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F76A705-87F6-43C4-BD6B-72F58B2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D68540B3-F1BE-4158-AB41-8A437B32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50FC393-4BD4-47D7-9B67-26EB08F2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E7620A1-02B0-4FD2-A12D-17651F17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B9B1039-299A-4DD4-953D-0C0DBE02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F9A2EDC-52D6-4D96-84EA-1A47D578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15B0EF4-3AD0-441C-A3A8-912C0F3B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AEB2A70-CDEB-4C56-8B6C-621F0DF0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63CD9C2-222A-48B0-AEA2-5B3EA95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E43C42F-B591-467D-AEB0-5DCC9A14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D5EB1-A5D4-4D36-A16D-E38F8382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244CC33-8BD2-4F8D-A562-C5346F6A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2979AC3-66A5-4740-8F6A-AA9DC059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A5740CC-2ADD-4B5D-99AD-2F01B3EC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ECC2BFA-526D-443B-9937-21D8DE81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A2EC025-ECF1-400B-A5B9-05F587F3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BD6AA76-2EAA-4487-AAF8-810D2DC0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57AAB24-12FE-4B17-A25C-D2C5616A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6290BEF-9619-4548-B9BF-3C93FEDC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7829717-17A8-4955-ADB5-2B36EBB1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35AD926-CF57-4592-93C1-37391A2E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15AC4-7F52-41A9-ACFC-9D3700C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44C0BE5-2C23-441B-A8B2-BFBF8FD8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42206A7-53DF-4923-BE16-E74C224F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B5661EE-8E69-407A-889A-CA022E6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DDC7BB3-671D-498A-91B4-E37C7C5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1526184-4D47-440A-9515-E8D059C9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8ACEF45-699E-4904-90A6-20098812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F8EAAD7-FDAA-4BFE-8D29-1F365DD1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F112F0E-031E-482A-954E-96E2C6CB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E002408-CE87-4A59-8432-9ECDE95C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5AD284DA-2E16-4B35-A526-66EA2C56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7DDA-98BC-4EB5-9463-3E9C5A72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C1063-692C-4550-AEA2-3365DE9D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A4DB771C-9F0F-48F1-8CEC-4B9FFF5C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44306D1-74BB-4EEA-8ED5-5F7ED814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D7CF4CD-8805-40F7-BDF8-BB4128ED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339DBE8-A21B-4734-AF48-A5889E0D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EB8F911-ED2E-401A-88B7-A423F3E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886B281-F928-4DD0-8C60-FBC3A12A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9A21320-55F9-4AFF-AD94-61F91E1F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4DAC7F6C-A5F1-40A5-88EB-001792F3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8220E382-8394-4440-A525-F3298480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9EA5EDA9-DA6D-4447-9E1C-C698B8CB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B478A-097B-4374-BB2C-FE1AEDE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4028C2A-7524-4417-922E-6B28014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256F0363-BC99-4448-B862-7C516C05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77AB44A-C632-48C1-AD96-9BE3567A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F5CADA6-383E-4817-962A-CA8E0E9C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B991A97-0A1C-4749-B718-2A41BAF2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D5FFF6E-03C2-44EE-B00B-A5EE85FB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857315A-5958-4838-B457-BE9B355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48E2753-8A7C-42DD-9974-CAE0279A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9B3157E-B901-451C-BE1D-3D27680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DBE049D-83C7-4C7A-8C60-B38902F2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864F9-3DB5-41E4-8F8D-32A90D3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E1B45D7-9E70-4DE0-B421-C2412802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AEE16EA-3FE4-429A-80E0-3EDBF678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D147CB65-C04E-4F81-8804-F285E499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2983B74-F2B8-4C11-81BF-0E71B48E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EC6E1DA-884F-4D44-A0AC-C331C3D5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17C1216-019B-430D-8625-C297B8B7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27B55A5-7D82-4A3F-AEC9-239E9089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3A671D1-3752-4C08-BA22-3783E11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3B06D41F-92A4-464F-9F74-150B07E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985EF42-6ED3-473F-8FB1-7028191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B317F-FF24-4829-A9A2-5DCC559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82BE4E3-8505-4017-9DC5-EFA9B6D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D272498A-8032-4837-B74D-5118ABE1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9F7E9B9-8C28-41D1-A911-77632AE1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BEE4611-0EFD-4CED-BEE6-517C9156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E4F7890-E490-48E3-A59F-35DDDA18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E6A676B0-DCA3-413F-81F6-EDA394C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B975409-5609-4428-A923-2026468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E157346-E1F4-4786-86D5-DDADCB7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0A830FC-A38E-4741-826C-A9B19C1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3ACA89B-2C1D-46B3-9D08-F34805BA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0F97D-9A7E-4AB4-85FB-21ED610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2CB6003-28A5-40A9-A77B-8E893A8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922A36D6-DA45-422A-ACDD-8DF5FA37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94777BE-BC4C-43FE-A10B-8BC4DD9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AC1C1F5-2FFA-434E-9189-0B5767B2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70F2EBF-34CD-4992-BB52-B72BB6C7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E108060-B01E-404F-BF86-F836B895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DA46C57-A5BF-432B-9CD5-F54637DA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5D43E96-C09D-4B4F-A9A5-71DD0B28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4524D75-D349-4B61-8355-BE71C572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50528EF-C6CE-447A-AA57-E79F3549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77573-93FD-4963-AD0E-5F181628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0DF351A-6F49-42DF-B879-21E12F64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4DB5758-1059-4C83-9271-222E080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E33831A-8DAA-4AD8-8269-F6FEF0E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4ED5235-ADD7-49E6-BBE1-C75559EB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B6F824E-455E-4651-97F2-3AA0D264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75C552B-7FA8-4568-8E35-01CA61B1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299D0DB-ACA9-409C-A5D8-2335AB2D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A4DB4EC-FAC8-4155-B8A5-2B27B575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AA540C5-00F2-4EE2-B948-321FB96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26B0EF1C-A1A9-45F6-9AA0-F95C4DA8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A6969-C691-4734-B3A2-8189351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9571609-A8F6-483E-8187-A2199E8B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0574363-BF5D-4644-9A45-675A331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8CC85E6-1BD9-43A1-9E14-4CA023DE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0D2A658-689F-4514-AA34-1E5DB43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A881405-130E-4D8E-BE12-D0FC392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82663FE-0914-46FD-A0A2-25928509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25B00E3-BFEE-4E64-9E64-F9C7A6A8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EF939D0-BD7E-414E-8FFB-6C0B4F4D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4B0C8EF-308E-4306-9208-59863825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BDB5354-7A98-4F46-989B-3746CFE0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2ECF6-92AB-45DD-80B7-405867E6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0B1CDFBE-9C10-4122-A9ED-7CA4FC7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81C79FA-D479-49AC-9FA8-FC59F4DF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4C89419-8DAE-42D9-BE9F-1097F5D1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F2E86C2-FA28-4D78-ADFA-6D3B223E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4464698-7431-4AB1-9DB5-089E57F2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A6F54EB-DAB0-42A7-BDE7-5AB3B189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7CD0EC8-5034-4190-8BEE-9BD6299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B5E5831-4D02-488A-9C6D-4238A02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A82DA69-7595-4D5F-8E36-44EEAA2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A00EC3E-17A7-4414-90F7-1916ACAD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7EC0B-D4E4-4610-BB90-EEC12933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4F902CC-8AE6-4E1F-B609-6F705133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5D25082-C400-4917-85B5-CA21E6F1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93853B8-CC2A-4FDF-8860-E0D2817E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719B821-4B4A-48E6-9AFE-71565A9D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E1572BE-5BF0-4850-AB76-336D6948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A0C97AE-B28F-4DD7-B2F2-9D8FA07C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ED59031-252E-4C78-8615-004D2066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0A1D470-83D2-4C7A-B8D4-8F7E10A0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D4619DB7-0192-4E31-A3B0-FE874D6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C9F63BC-BE3F-4587-AA72-F5096EEE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FAEAD-7837-42F3-A5AE-2CE6B1EA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F72F982-0805-438F-BECE-4F34DC7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3EFE88D-44E4-4B6D-B603-00BAD986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0985AE1-3613-4287-B9A1-A42D4CA3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0899D98-8E10-4A30-981C-888E5770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36A9990-E0BE-4FB2-8AD3-50AD1DDF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005AAE7-99EB-4221-8E2C-E6109FAE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CA618C1-A34B-4D5F-8C3C-54A900D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5780F5F-708F-4ED3-92A6-3F7EEEC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2F6DCF9-327D-43C5-AAEF-06501DA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9D9D809-52FB-4A71-A60D-07B08EB7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2515-05C4-4564-B24B-FDB31103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04EF0-41DE-4315-9E5A-68F04AAB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9DF7490-725B-469E-A877-92291010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AD21286-3BF5-4FDD-A029-BA54425D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28A42F3-0420-4226-A129-E60385F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C2BC7F0-3C04-422D-996B-3FCD5D1C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7663DF8F-5283-44A7-86AB-64B58012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F31B48B-E2E3-432A-9B33-51390AFE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1966654-5677-44C1-B83B-557B6BE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B0879B7-A934-4D23-8141-A290D2CF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E443B3D-5EA1-4E73-88FA-D2FEB62F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E4DF7F7-5343-484D-8455-90F8A0E6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70A5B-11D4-46C2-AAF2-C7408ED4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107A4F3-13CD-49A0-89FC-2DA8F60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3D8F404E-C51D-4C78-A900-9C8C6B85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F79F8CC-43EA-435D-9837-A0B1AF41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02101509-5226-441F-A234-6B75C299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EC77F6E6-88B3-41F6-A509-E93B2DA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B61A872-D682-4E9C-AC1D-8DD8E415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2AC5837-D8C9-4C82-92DB-80928F96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2A4E319-3509-4511-8A44-8910DFA2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25A2F67-5F17-4101-B694-07E7CFD7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2B85611-8FC8-469E-9910-0BF90235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96284-409C-442A-A5DE-AA22526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11F767E-ACEA-46CE-9CDD-79AA203A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AD3AFEE-33D8-40D7-B282-45F0362A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C69D627-5F6D-4CD6-B32C-B85CBDF6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30DFF2C-2527-48FE-AEAA-F49B5C7D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559DD37-8201-4D4F-A499-8AF65481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E219025-B1C3-4501-A2B2-286EB4A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DE694514-04EE-43C2-BE3F-7BCCA011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38C4015-A848-4A2D-8190-48890D41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DAF7A71-6461-41BC-AB3F-D2B23AFF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631EAAB-EAD5-4542-AA22-B59E804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CEB66-1D5F-47CC-86CB-2B54B4ED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99B512D-4BFF-4670-AB42-5108F686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4179641-978B-4F2E-8127-841FA7D9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DC28357-4F40-4C97-9A23-602FC9F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4A50DF1F-EEDB-4480-9D96-6E05AF76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08F873F-9E41-451A-B085-1D2CE045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735B7C5-7E1C-42FB-A361-1E8CB9C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02DA33A-7632-4AE5-BCDA-B31EF69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5422F96C-AE2C-4F45-B91F-AEA3581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D917F39-1258-424B-A140-19724551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1439981-076D-41CD-ABA9-97917EB2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696B0-29B3-45F6-A3F6-BCDB0F5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A4C5D43-6F22-446D-8B43-B80B50F7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16BCB31-B6E7-464B-9D35-02291CED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BE20B41-D219-4D36-9B5C-6D6D32C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4DB6D7F9-1D0A-486E-B995-ED8714B9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4A723556-98B5-477E-ADCF-1795B281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BFF54617-B995-4C19-9A8E-7C7A58D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CF5E119-544D-46D6-86D7-9B52A496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AE36419-AC3C-40DF-9CD5-1A89DA5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D94C8BC-80AF-4AED-8781-5200C0DD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F75AAC4-CEF6-4CB0-BCF3-AB420C2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54DED-D540-4A12-8018-9D6274B6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4E8778E-735B-40EE-BE31-8D33FA83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D0D9809-3207-41F2-923B-F2973290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45F194A5-FBA8-472B-8FB9-99524239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1A7E1E5-47E7-45B5-B054-4B0A89DB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1681A233-5062-400A-9B0E-2B522048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42F80D6F-1EAC-4B46-B1E1-5ABF861A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6EEC6651-2679-4ABB-9A15-AC0E36FC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1FAD6B53-59DF-460B-BE0B-D12912B6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458E2C62-4764-4411-B290-82A8C177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4F1A15D1-A911-44A4-8195-BFCAD92A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905EA-6C10-428B-B211-DC1EDC1F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D27B24B-2EE3-4025-999A-D193965D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FFAE9582-5E25-4A61-8D94-709FAE76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012C7F7-E860-4D33-A052-F40DD27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A36FC85A-DE0B-4839-851B-2FF7A2A9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6F7B75C-57C1-4727-8295-1570A4B1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3D113BF-A660-40E8-80E7-741841B8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61CB6FA-8AE2-41BD-90D2-FF19C01B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4BACA7D3-FC71-4F63-893E-84368A8A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CD28C861-F0F7-41BC-95E7-0EF5D11E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FDA0AD16-FEB3-48FE-9AF8-537DE466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F74D5-00A9-45F2-B8DB-65E4447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FB51A76-E7AE-47D4-B6F4-807EDE53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E80AFF4-F56B-4E06-AC09-0A44188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FE888E1E-779A-452C-AD67-3FE803C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7404F89F-1ACF-4AC3-AE75-E4752E3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539E8441-C41D-43D5-8A08-B370D484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F8D207A6-B375-4CDE-AE7C-1DD103B4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FE9155CF-6B64-4395-80F0-B4B6DFA0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60ED2E8-0A9D-4165-ADCF-3B5B3A5B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3CA582B1-B254-4C0C-8AB0-3B02776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FC7AB28-8E39-44B5-8A1D-172E318D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7CF52-9110-4FF9-9010-EDA38AB0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F5A5D14-9555-4F94-BECF-2F152235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F030DF63-C769-4E58-84D8-15D211C3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8A83B225-9F8D-4275-8D60-FDF81A8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05EAF198-0D76-49C8-AEE5-B42D080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B21C0533-AA51-4727-9259-30DDA13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421E7372-ECF7-4CB2-8FAD-36CF39C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B8B97A59-BEA0-4095-83A3-7BE3BF19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A8439720-0385-4E2C-8E29-FC197ED7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0225ED75-3FE9-43A2-ADE5-B9489201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D156892-DB45-4375-92F5-C9EB3E6D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642740-97FC-4663-97EA-3633873A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5307761-AA3D-4703-B208-814332F4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34DC96C1-0A7A-48DE-B0AD-5AB1D80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F649626-9B23-4011-8583-5F07E45C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286D7A55-3DFE-4539-9565-8EF88A8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1F554CE0-9C5B-4D30-8B48-E33ADC80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EB11B509-23AF-4F69-95D7-0C9ACCE4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10221A6-4CFF-4D0E-8793-C433982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D871E24-40EB-44CC-A54C-28002B6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7CF5506-F751-4018-BB99-7B53099C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BAD1082-05AB-4D45-8780-1148E2B0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98A1-F5C1-482A-85AF-1749B8F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BD037-D8A5-4289-89F5-DAEB48C5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064A291-BC30-4E2E-BDD1-35720D88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E93A1F0E-D51B-4620-80B2-76CDED5F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6F17457F-6634-4003-94FC-976495D5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9B4F646-EF25-4738-89B8-2817DA9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EA112EB9-1E52-479F-B795-AD5E96BF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BBA2E23C-6673-46D5-8E51-A69DBFA3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876CFFBC-6496-4B64-BF2F-4EA7DE49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DFA4AC90-AAFD-4C59-A0ED-EBA8684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E58A7C8A-B679-466F-A25B-77A18CD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0D180C58-CABC-4F30-B20A-5F010C0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1C9A7-A773-4746-847A-5EF00E20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D127807-8B72-4607-815C-154035C0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E18C0E8-1FBF-4D52-9535-DF402357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F91D5DD8-E360-4056-8CBB-4A175FFB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F5644E98-FD04-41CE-958D-47052A5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69373C6-26BD-4A3C-B2A6-838CB51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DDCE341-AE8A-4E27-B7EA-1DE8F6F6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5D41E58C-D3D6-4214-B5A1-975994B0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A3F95457-5810-4A69-949E-05E3469E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035E514-FBBE-4F24-860C-8C91FF3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6BFC61F7-A7FC-4AAA-BA5D-E4CECB8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06DA1-D9C7-4101-A035-F7FA2EA8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22BB71AA-CB37-42D0-8E65-7D882E6F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C727B2B6-E67A-43F5-AAF1-CA02AEC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17C9120E-F71B-4227-8394-329734E6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5753F29A-42D1-4EC9-BA2D-8219ADD4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0E6A6764-839F-42E1-97DA-D68A98D3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56565975-A89D-428F-A348-ED1C52D5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7A33B20E-F6B1-4E88-BC8B-9B2C70DA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8CA83495-094F-42CB-B0CB-741D3897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F1DEF6F9-7419-42BD-8FB2-03077E5C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AE0971FD-E249-4EFF-B9EC-FAFA8D84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09664-E6D5-4670-AB87-5DEA219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FD4B2CC4-5531-4861-AC4D-00F93B7E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5FD2265A-FBFB-4FBC-8987-F2E081D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8AC77E84-460B-4EE0-9CFF-0B7B8D1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A2A89E87-0A30-4B7E-978A-B5835C89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73EE128E-5CD3-41D2-A9E8-5B208BB9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C10721FA-6165-4934-96CA-1BCA1E6C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0716669F-DD26-4ED6-B257-51A5FFC6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4C9B79E-0F50-4250-8600-AA5EB153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EB2EA188-9316-428D-9969-1C7646F7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4B3AAE0E-E7A1-4D96-B5D3-C3052684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469D6-CD9F-418F-A22C-99C76C9F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D1BBC92-C093-4D7E-85A1-5A4EDFA1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89110D6C-693C-43A2-A84A-4FA71E91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BDD98A36-AAA5-457C-8979-00671C9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A6F0DA5-2632-4FFB-9CED-7D0821ED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3F11D17-3FC4-4FE1-BFFC-BE165F7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3039CCD-8807-4E0E-9C7D-8672E3B4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4D70D643-ACFE-4FA9-9F7D-5BEE697B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B1F9BC4D-C4EE-4FE2-94B3-9F59D34C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A1772A4-08E4-4034-A81D-3AB8B26F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A6D29C0F-983E-4093-9458-F81E8164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21B9E-FEDF-4F53-81FC-51B8B6C2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5F5A432-26BB-4815-BE8C-630B9BC1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118B2297-DA48-48AB-8ACF-1897C55A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7E751A34-24E5-4557-AA0C-801DDE3A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F7E2150-4928-4ADC-A1E7-2A0F3ACD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E1C87EF4-6EA2-46DA-9B2B-E96E4B2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8046CC7C-EF7E-4A5F-B408-4FF721F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0128C89D-3598-4C52-91FD-547B3D5F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765D942-C038-4ED6-8617-60E4A413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D435A115-37F9-4D78-8D00-DB89BBFC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F75C805-4139-46EF-A72A-7760E17D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897AE-25D2-45F5-BAD0-DF0A9193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927177B-D8CE-49C2-8FDB-FA441447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615FCB7-F723-421B-B22D-C6062322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F78E087-C5C9-41DD-B269-C9C09BA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32EDEB0C-C2B5-44ED-94F0-91944B66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444EE998-BE17-4890-B7FD-8FF96866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5A531EBF-B01E-43E3-838D-B78A76CE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88B8DCAF-03C6-4D3A-A7D3-C31C176E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F4DC577C-AE51-4CF3-AD4F-F592E1CE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C6EE7E83-AFB4-4569-A6CE-6E658EF6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01EBF629-52B8-442F-8D67-046601A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CED62-5923-4C91-8F62-26930691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13A5DCA6-EAC4-4FFF-8D99-75BF63BC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D298896E-CF30-46AC-AAA6-16CBDB78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476FAC3-BCB3-4BF2-8E40-75EDA978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FCB58AA2-7DB0-4418-84A1-10C0822A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BBD27401-240A-4397-B7B9-3A88CD34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FEF6A140-D595-4542-BA05-77BD83E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F822E91C-43F5-4952-8728-BE201165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F19A23FF-2AF6-4308-BB7A-309AE2C5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519C6561-DA2A-4A60-9B06-AD99A700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36DC8AB8-29A6-4B69-9070-1083B0B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14F75-0529-4AED-AF57-45DE36AD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72E9306-5962-4F55-B2E0-C1BD667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78300DA-B4C8-462F-BBF7-BC9830C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A5FAEE9F-98B1-454F-98DB-84BE55FE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261D4C9-18F8-4BDB-9FC1-A398827E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775526C0-D849-4EA0-80EE-5C859795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0007A-7A72-4DC7-8C2C-C8E4020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44F0-55A4-46D7-8008-AD65CC2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F909D-308B-4516-8790-6E5936D9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76793-575A-4BCD-B8BD-00FEA4E3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2BF8B-A23D-47F4-A870-26A2C340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47D56-9537-4DC8-AF3F-5502C9AA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13722-68E7-45EA-9C8D-29FA764C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3722E-96F1-42FD-B8A9-E38AA921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3AF53-B8FE-4E26-AD31-0D89058D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ABD3D-748C-45B4-806A-FBB28F81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E2D66-873C-4E7E-A4EA-A4FD1544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9B1BD-7E25-4CBB-98AE-FE6BF7A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CCF-9F7F-45B0-A7E3-A35843E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9A97-4EA8-47A2-8B87-EE987FCA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A9CA6-21C5-4EE5-B633-BB37AB4C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34D96-1DB5-4834-BBF8-F35B8C9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B8101-3994-4CB5-8FEB-7EADACE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68B5E8-E6CC-4751-8EA0-0BBF8A73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6198E-09A5-4918-95AB-9C656575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1358BB-C7CD-49BA-B9C7-FF7D40C6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ED782-05F4-4E40-890D-8944C6BE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27236-74D7-4C85-A7B0-C95DC7EE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6414D-0767-4984-B0D7-633937D1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6412A-5ACD-45C1-8B36-52EF1E15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542A-3B82-471B-9D1E-FCE76A5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8DB28-C96B-4D34-AB52-6C22D666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3C6FC-3A42-4867-8384-86F73949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6A478-48CB-462F-A6BC-BC74A3D3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5F929-ACE8-4DBB-A1AA-E9B05BD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BE950-BC53-42B2-B0C6-4EFB6C6C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CB046-2454-4BE5-AC0C-4976038F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FD1EB-45AB-4AEA-B389-3F928420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90F7C-FB02-4280-9DB0-7F2D0FD9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1BEA6-DE91-4508-8BD8-E3B625C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9723B8-4647-4428-AD87-3FB8EB00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ED0-5778-4645-BFDD-84F212A2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2C256-318F-4111-AC74-FDE805A0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A2D8DE-6024-472B-AD6C-D1E9ECCD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4B1D3-6730-4F62-A5D7-84DC0464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A640D-E1DD-4E86-A646-44B2E48D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58858-8F73-413E-8301-1DFE54DD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17A96-04A5-4144-9513-BC1BBAC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AD350-E4E3-436C-9B7E-0B5720D4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73F1A-BACF-40D6-B4B4-A2BA84A1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D80C12-ECD8-45F6-8307-4CD83C4D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DB7D50-2239-48E6-8143-59BF2407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3EE5-746A-4ADB-9038-62EBBCCB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9B7109-B93A-41F8-9D09-5852D0A7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9BC29-F050-49F6-B64C-4B88821D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9C951-BC22-4692-8247-C4D08CE9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728C7-D499-48E4-8606-0137625D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2F846-3BB6-4D2B-86A9-1DCE2D8B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2D2A9-6FFC-4DE5-8B13-3C04CF9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922A2-CEF8-444A-8A49-58203AF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37847-5E45-4B4C-AE6C-7468B64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1F5D80-226A-420C-B21A-219BB608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258FB-0064-408B-91FC-BCAA5C6D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B48D-8ED6-44EE-9797-1768CBD2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39C5A6-939C-4C13-AF26-B250AC6C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9D0A9-D2F9-4945-9B5A-B41CDE09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521B3-8E89-498A-ABA2-D37A223F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043EC5-FA61-4666-B5CA-70410049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AA22E-6271-4422-8FC4-BF0182E1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F70BF1-CFE0-47CB-A355-9D338259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64602B-E844-4320-94CD-10D85C39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BD5E2-8A2D-4C1A-B55B-C6C18185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40F830-68B1-4B99-A43F-E4C0F6A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0D5D1-DFC0-43E2-9B98-85B21B4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1D62-493A-4EDE-9044-6EF47248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509C6A-DDED-4FB0-BA61-CFB8CB39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5DECF-E9BC-456B-9848-78D7C9F8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2CF2B-D1F2-4579-9B35-3E9EA5DB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BE433-67B3-426E-92CE-E6F3B326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4653D-4D51-4F12-8A55-8934CD4C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5B1AC3-6792-482E-8DB4-F43C1A6C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656F07-E211-445F-8821-81BD567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B86A10-38E6-490B-9471-57A7A9D7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F36EA6-2E57-487C-8247-FB965F4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3B43CA-D67B-44B1-86D8-F8C094C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4668-F06C-4A32-89B0-155965C9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EB81F5-3B15-47E9-A053-9CC74B20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8AD15B-07A3-4781-BC13-BBF4DEC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12E16F-4641-40EE-B232-DB4B59BA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5FF181-9DEF-4B53-BB90-66DAF33D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A8DA50-619E-4D99-8F88-60961BEC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F39420-76FA-4348-A0D6-C1716B83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D7E0F2-A9B5-43EF-9322-EB61D1D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E9561-2242-4CBF-B380-BC8D9C13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5B1C77-3B0F-4C64-950C-25A7C2B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73BAAF-3618-4E11-86D7-4EF1C212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95EF-8FD3-426C-BA38-D85B9AF5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BE3379-2188-43FF-8E1A-C6B3A8D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F4A987-5DF1-4571-8564-E36E92A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E42518-FE9B-408E-90C2-DD0C883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44DA5-ACF5-46B2-8CF8-03D50102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6DC0C5-E533-437C-8431-226C1ACA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9CC9D-C1FB-4C63-87E0-BC409973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A2A848-CFAF-4B90-BF28-7B654629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E9A17A-03D6-4B24-8194-5FF8A729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0B9F11-6DA0-45C8-B9B9-706A84C2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FD1E1D-794A-42EE-BC7B-5739F7F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D2BB-84CB-44FA-B21B-22909CF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B6EDE6-F3F0-488D-A00E-93B8CC8A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D00C19-3A58-49B5-8B5B-AAEFFD24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428EB0-1090-448F-AC73-4F5A46D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0F68CE-4AAF-4F0E-B3EA-04F6700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271F32-F5A4-4B2A-9D47-C6667C9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C87E72-3C73-43B6-9CCB-06BA8D2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F8A0B3-6899-4D4E-AC91-4415D539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0C46B-D000-4F8F-AB39-1E194279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0734F8-5445-4617-8A66-DA16A0E0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8C5FA9-AEDE-4254-897D-C3221E2B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947E-39EA-4359-9032-3F39A51E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C0D51C-3EEB-458A-9941-7D785ECD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E12A45-34EC-4F6C-AE8C-A6A580F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69B14D-C599-43B0-9B82-C3BB440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5886BD-A76D-47FC-8374-7417AE19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9AD2D5-3B81-4B38-916B-5A749FE3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088F30-CBE9-4A44-B4B6-D5AF648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45EECE-3C30-438C-99F8-0D7DFD3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C494D9-78AD-4832-BED5-090D985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33C324-CE55-48A0-B156-4C4AAB9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59816F-DB85-4160-BE3F-D8F695DB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AD9-6DAB-413F-90EC-B020FAD5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E06B-49F9-4640-84A7-BDA91D79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407330-45EF-412C-B52B-5CE7D5CF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149080-DE23-48BE-8771-0CE1A918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E6E687-1D2E-451C-86A4-7FB5C013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89872D-3F4C-4763-BC50-58538E43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AE2BE6-BC3F-49AB-8977-5AE4EC10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B30DC8-83E9-4C77-A175-1B83CB8E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2D8EB1-6B44-4DE5-B6E0-566199FD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142832-FE27-4A33-9032-A5D3B83E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2793E6-0CFE-4400-ADF6-01549DA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E79866-66F4-484B-81A0-D51F7EF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890C-F622-4D2A-92D0-0ECB30AF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252CD0-DCB3-4831-8CAE-AF0BCFF0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0ED67-3FAE-4B44-9DE7-85ECF728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828E49-25B8-4DF1-B076-EC0889F6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9A6C0D-D192-49D0-867E-22BFBC54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535060-1B28-4EC8-AC45-FDC25BC7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E32033-394D-4DEC-A8F3-E354E734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4C156B-549D-4A2B-A005-44C9E5D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EC2CAF-E3A9-4541-B00E-8BE52A5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195542-7FF3-4CE8-91E7-8196580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3702AD-B595-4F86-AC9C-09678BCC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A7ED-68C3-40AA-ACBC-AA428D1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465D74-1799-4397-B423-C4E671B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9952D2-D7F2-487F-B949-75451DE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062AA1-558D-48CC-AE5A-A64DCFFA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C01F6B-4B3A-44CE-B113-996F20D4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0E8741-9660-46AF-8148-5A996739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5E63B4-C50B-4B02-B6D3-18A09BF2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021542-B2C4-4AE5-97E7-34E7CC7D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DE1573-90FB-44AC-B80D-1E5914BD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A58F5F-3DA9-4B43-A8C4-C47B6EF5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87EE18-ABD4-48F9-B35E-464DA2FF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BCB4-66D7-4652-B427-85EA931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A4570F-93FE-4DFC-877F-76C9FC87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1A4340-99D5-4A94-A15C-C536E88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7EA5FD-FAD3-4C8A-B849-F1806A9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76AEC9-762A-49A3-B738-2FD2C9AF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2CBC61-A8D9-4B83-9BB3-3EA98F97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666EE2-2238-4749-B1BC-44E4C2A9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493034-1B01-4B00-8A9F-FC12A2E4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524FC3-69C7-4780-9DB9-BFA7E761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F867EB-FB27-473D-A8E9-C38A9217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AAA2DD-59C7-4690-ADE7-19C0F34B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774D-8B34-43C8-BA9F-77F0F31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94344F-C72A-4BD6-8797-9BB7401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3A2800-73B8-4076-A098-4AF47274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CD2A4E-2720-4129-B620-04638A5F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014CC8-4054-4C85-83B7-AEC38050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86F1C2-3C15-4160-95A8-2E045802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B72605-3C41-405A-A83B-32374BB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44AE8F-DC7A-4B5E-9EB5-86DF0BC7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D5EA79-ED19-4D9A-810E-FC1709E9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4F35B9-738F-4C64-A8D0-9BDD63DA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50E3AB-CE75-4E93-BB3A-7DE51AB5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70AE-812D-438E-859E-1D82A0FA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664036-4BB9-48CA-BF38-8045D3E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9EC695-C2F5-4822-AD72-7FC63747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ABED9B-4FCE-489D-98F8-EBF1C13F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9ECDB6-E026-4F12-9008-32F49145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2EB0C1-07A8-4F4E-A0DA-62C3DBA8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34AB1E-6ECC-4DBF-A0F8-A00C6B2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714E45-5ACD-459D-92D1-670145EA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51E36F-3CE8-4BF9-BFFD-81A256A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D03023-F7D8-46C2-BB0B-67C614D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8A10AD-8A87-42DB-B04E-64FE9584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AD0D-9A42-46DC-A9D1-16F5FAF0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5DD3FD-C615-48BE-B86C-62ED8BCE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2F14AD-51E6-416E-8FD3-13793FE9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FF5964-0794-4AA8-BE5A-D5BDCA06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A02B97-D29C-49E6-A8B5-35A85929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C6274F-DEFF-4580-89B1-9005A30E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D4A16E-BF47-49C5-A17C-050BA18E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DA53B4-7AB1-441F-AA43-CCB57519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8B720B-6E7D-4718-B8F3-94283A05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7C0457-0EEE-4307-9CBA-A78AB827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6832B5-EF1F-4946-BEDA-BD6BE4B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65B7-FFCF-4E88-8B4E-1AA3EEF9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E6A1D0-13FE-49F8-8DC7-7FF2C25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468471-ABDF-423B-BA37-5F27AAAD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ADB05A-B9B9-4FBE-B71D-3EB89F33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0646F9-B054-4635-A455-2A0E2E35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96BADE-C0A9-4B2D-AC93-355071EA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782A35-0758-45C5-BAF4-ACEE47C7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2EA77F-BA91-4B36-9340-EBB16256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742938-F68B-4A03-AE2F-4EE0B2B7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0E3777-92AC-4F2E-A89A-05B2C238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CC57F7-5B3F-451A-8147-AEB97D22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8EDF6-F9F5-441D-A3DE-F1E0D94E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768724-96CD-4436-9450-2B5227E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74EFF1-9CF1-4E65-ABC0-AAB9B39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960DD4-8A20-4D44-99C4-166BA0F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05B6CA-11F7-4BEE-A439-CE6D3F9B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E0AFF4-8970-4941-BAB1-0B35F3D8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DF12DA-50C7-43E8-AC00-D1009F85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20BAC8-311A-475D-BE60-72CEDD0B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01530E-6178-4FB7-A73B-88F1E63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39D0C6-40A0-438D-8094-6DC0355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E20A7C-8C4C-4E84-BC4D-E641C223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720C-97FE-4CE1-B5A3-50115059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A3AE6C-3FE9-4E47-AB38-66939DD0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CDE65D-E726-489C-A1B0-8A48D6E2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87F975-BD58-4FA3-AA60-8CEEB288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AB96F4-89C0-473C-B0D3-35860D2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A1FCC4-030B-462E-9C88-05002C70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347165-868D-4160-8CFC-B413195E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82375B-D7AA-44AF-B15F-21BE5797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C36FD4-7BF6-4CCC-AF1A-DB3A9736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D29506-4FB1-4C3A-B14B-7DD3679A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500A98-94DB-49CB-8E38-E12ED5DA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6BA-F886-4A87-83D3-EC327BA9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FEC8-9E71-4E23-B6FB-16C020FB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790710-A92E-4DFF-80E5-7C1BB684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0F35AE-0025-4E59-9C25-B5111F8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08345E-0654-4B84-90AB-923F2F9D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7CF3B3-F987-4A43-9D8B-409DA6D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926B69-9DA3-42B8-B341-66D0CBD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AC79FE-90D5-4F20-9121-2321672B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42DF5A-7411-451D-AA24-908B456F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5892FB-4CF3-440C-A231-D7B9B909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5682C9-48D7-4D0D-A03D-F004088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DBAAF3-6739-45D8-B121-4199675A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54E8-18C8-4A55-BFE7-6517CDA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BE7490-2623-47C9-8458-5E8FC883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6DAF48-5B7B-4430-94AA-861B0ED1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A7B733-C352-415A-93AD-8515CADA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1C2412-62FF-41CB-8B6A-77A65CF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0ABBA0-5C9A-4747-8704-1250A90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0A98C9-9A18-480C-B5D6-6F4D5DE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CB2457-4753-4F8E-A1CF-FADE64C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13967F-C881-4197-A18B-98ECED0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020344-2F99-4E0C-91A3-50663A00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449DB3-7F02-444A-9013-9CDDFAF7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F3AE-FE21-461E-8AC3-0EDC94BF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FFA3D0-9776-422C-880E-34B59274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87350D-9B66-4785-AB86-6463CD24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1750FD-150E-4714-BF14-25257C78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C90701-9FD5-4DD1-A214-113FF8D7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1556EE-D7D6-4B56-AFFC-C790B875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62C720-4F61-411D-847C-547EF115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5E6A22-0934-47F0-94F9-BBA4ECE0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6B05EC-4FA0-4100-8A0C-833F393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9BABC0-6EEB-4E3A-91E0-4FFB22E2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57F859-400E-4283-833B-81A8909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F2E0-FDEA-414B-B671-8E62DE7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C75164-4333-4140-BD06-2FD7713B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E18EB3-AA26-42E4-8C39-6EC50A8F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E59669-9D5C-4DD7-BED8-4F54D77B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3CB4F8-240A-44C7-B206-5B2AFCD4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EDD3D5-78F2-4867-A800-C434015E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B06DDD-25CE-4D2C-8659-735AFA97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1FBF7D-3296-489E-86E1-0A03750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798DDD-CBB0-41AD-95DF-849CFB5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DEF40B-E3C4-4AEA-82C3-9017484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E58F2D-AD92-4BF0-84CC-3040A2F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A4989-C411-49E5-A86C-B9717B3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125C83-5346-4038-9003-EAB6BF9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6B569C-2D7B-4B88-A7F9-72FF95B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9C8699-EA58-4D6B-B53E-B480C039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D53963-BFFF-40B2-8FFA-FC3F6818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3063B1-3938-4D08-9AFE-C6450CC6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6805AB-77C7-42DF-A38A-6170699A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D6CFE3-48C6-4BF0-9CD8-4508F6C9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EEEA9E-6519-4836-B77B-B8CF2AC6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A59C4E-F8D0-4EDC-BAFD-A7C8A310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1D94F2-C5F5-4FDD-82AB-1248B512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211E-6C0C-448D-A6C4-A9B6E58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EA9053-C970-4DED-9CD1-E434A219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8FA7AF-83BD-496A-8F25-DD3C102C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EEB08B-D136-429D-8D69-286DE28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B2F8A5-03AC-4D9C-8997-4427FD4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6C3F3D-8BC3-4CC0-AB1B-4DA2250A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A3F61B-C808-44C8-9C21-A4A188B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2CC867-3DF2-4A89-B171-94269AF2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74AEDF-7781-4D74-A609-B606A9B9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BBABE5-4291-47A1-BAE3-26E82BCA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C75296-9441-4E6B-84B5-86A31078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6466-3DBF-480A-9C18-C173710B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48B263-FF4B-4B4C-A322-0BBA0613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417A7A-404C-4AF4-91CB-2F451B30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591F94-7AAA-4844-AA99-E2F08206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B960AE-851D-4963-9674-8402DD5E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D12B6F-E97B-413D-9E6F-D866DCC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13E6E8A-7446-4C4A-9A3E-5DE9245B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A5B459-BEDE-47C0-992F-AC6E399D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BC5C60-469C-4F08-BA11-CDA31844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98ED605-B05D-4EE8-9BEA-9AF724CB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566C33-E5CE-440B-8527-10083098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20EE-EDB6-4AB1-9A99-50BA2E62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E9350D-4F11-4B10-A2BF-8BCF8A2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E6D68E-C232-49FD-B65D-D0B9EFA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6C57A9-2577-417E-9B6D-DA8A8E4B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EADD1A-A4BF-4416-B189-8B816B80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A1C051-112D-49A8-84FF-842491F5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75E7F5-0902-41A4-8325-A1090102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B03C4A-8784-49AD-A27D-4EFC761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123089-FF11-4352-B91E-74749160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03F3DDF-A388-4BD3-9361-8207305A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ED5BFD-00CD-4EF3-B5A0-8DEDCD92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C17E-D36D-4B1C-A91A-885D2954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B753D26-CD0D-4BD4-8B15-C5C0D5EE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AE4CE5-22E2-4FE0-BC7A-B4286C95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792EEC-F085-417C-A7D7-58D99C43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AF2B69-7F5E-4C9C-A726-E781F05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4435E6-8D95-44CD-A902-9FBE130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B21FAC-8870-4FC1-A38D-48CEC81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14EF34-F112-4B8B-842F-2A9C414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0023D1-54B9-48AD-9520-7159383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DDB796-7283-469F-B4BC-E3AD90F0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DB512A-4CE3-45B5-BD89-C169E353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6FDF-B2B5-4A59-AFB9-0341B154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99FF49-6754-4DAE-8B2D-05DCD98C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150DF5-B105-4A89-B661-B0BD2F75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941F28-F25C-4F91-8E50-3341E210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8B93C8-CB81-4E67-B00D-3077D75B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C7EA931-0C6F-4482-B252-E54F7A6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D56767-CDEF-464D-9F40-F0F879D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D86198-2CCE-4B3D-A85E-D3EF238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805D1E-D6F5-49F7-BA80-5203B466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AFCB89-7F11-436E-88F5-3DA3D53D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1DD24D-606E-4EEE-B536-B50E692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A7A-B74E-468D-9496-DD2EB34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4EEA-6C13-43E9-8976-FC362E5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F2EE82-796B-4BF2-85AD-54BA00A0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674F35-C11E-4CE2-BA3F-9A264E4B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613ECF-E4D0-4E72-A5C9-5CC567A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33B164-50DE-499E-A7C2-3A5657CC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1FD271-077B-4BAF-A3B2-D8FDDD23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734FE00-32BD-44BA-8B62-5A392ED2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7555D5-0EDD-48B6-8D6A-BB1A255B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5FD7D0-EF23-464A-BBB4-CABE24E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858B32-0D6D-4DD6-A41A-5A33D23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F0D724-74FE-4552-ADF3-BF0F4B1B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9C7A-140A-425C-B38E-B2B04C69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FCA378-5311-4010-909B-C19C453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A1B1E2-F3E3-4CD5-BE24-ED64CFB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5477C2F-2032-462A-A812-B1B53AD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D2125A-98F8-4A37-8CC8-82789725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0CFE08C-4874-435D-96A8-14C96918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487917-ECD4-4629-B962-12B7ADBE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FA8B92-775C-4996-A5C5-EEAFF522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181364-3306-4F55-89B5-A563F7D4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13C3093-B9AA-46AC-BD75-43A0DFE8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0A78A9-46AF-486A-959D-7B1D6CBC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62D3-1CF0-451E-9F2F-B40948D8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217D05-D26E-4847-8D1A-7049EE0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9AE0C3-EB9D-4DA3-9277-A637015B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279A8BD-0513-4D00-A4DA-71147B3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339D36-EB0A-4733-AC72-2B2E928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5B6B39-91E5-4072-A28B-931BA3D6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B86D25-AF98-4331-BB41-8C692598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AE67B0-931B-44EB-82EE-31B27F73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AF3DF7-F56F-4904-931F-6C9FB2BA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236FA70-BB5B-4A35-93F0-8EB10523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2058E75-764B-45A9-BAD5-4B638BDF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78C8-0F5F-4410-9E96-E9358608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AF388B-7B1F-4AD8-B48F-35B0D8C9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B9CC5C-25D5-4566-BB59-4EC27553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EAD068D-90DF-49BF-9108-59B81896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A81808B-D4D6-48E7-9ADF-4B610DA1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7A9D534-B787-43BC-89EC-6EE10DD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6ECA36-1FF7-4A30-8643-FB8F3105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2102FB-8D13-4518-ACD3-6A74DC6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48DC5E-CF18-4699-9B24-BD18789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C2DBFC2-3E9B-42EF-954D-046B6E1F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A34367-2733-44DC-90A8-790C7302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2E4A-52A1-4C2B-8716-0877251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2C4785-6260-4B91-BBA7-38B9EA6B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5734C3-9B29-4B6B-944F-20019DE0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56F2031-4342-4DE2-831B-CF84D7A6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ED63D3-48BC-41EA-B1D1-9F438BB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C86ADC6-9C48-4408-8AC3-813FDC57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A83E2F-22D7-409D-8B5F-1C905001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E554A1-EF99-4B49-BB6D-1A12CC9E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3B72CB-5981-435A-9B9F-9E090F5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38E9AF-F33E-43AD-B4C2-DE0E0A1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18041A1-D860-4201-9F62-6743E905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2C95-97B4-48D8-A3FA-6B437F9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EA0A21-F1DC-4857-97BB-1EFBCC5C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26517D-6EEE-4825-802F-4324FEE1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85B245-717C-466B-A6EB-B2D88D50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E222AB-24CB-4FEF-8686-91707A4D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D358FA-9FD0-443E-B91F-CEA81BE4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0CBE41-EF7B-46A8-AD3E-6B278C8E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2A622CA-403F-44A5-9E22-95FE0A5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A08015F-200E-4DF9-9B88-198732B1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F95762-27E7-4FCC-B6DD-3837677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3F5C38C-320F-405F-82F9-FB287426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C32A-B2E8-4A47-9267-76929FB7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0DC88E-45B8-464A-A59C-73AFF0B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ECED779-D2A5-4788-9DC3-6D9E985E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F7E4DF1-7662-4875-B565-E2C08A67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3FCE82-DF64-4413-AB99-4DDF90CA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3DED71-4FB9-4037-94A0-F8C1EB18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5A871E7-29AA-4824-9F36-E472A631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3564FC2-F093-41DC-909A-456BAED1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D5B944-0D75-4BE1-BBCF-F768313D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5E8356E-4BB3-4C3C-B89C-11EF7C46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F722DB9-1B4B-46FC-9911-9743252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99F7A-ED36-4244-9B47-BC386EE4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35A1E89-BCED-44C3-ACB5-88E16B17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6D9DE5-6EE9-401C-A4F2-62DFC930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58BBE61-020E-4DA9-9D58-8A19FA0E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B91F65-7E3D-4870-922F-3FBBE51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644AB1-CF25-41C9-81E0-62937BAB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76C123-15FB-4B4E-9B74-C4A59DF5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83D0B1-8788-4522-B764-70ED8F28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9B6FED-4216-4371-BF0E-45648B73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43022F-1142-42ED-970C-27530F05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3B3EBB1-203F-4B8D-8A72-1964D421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12FD-7C02-4B30-AFEE-7D37E6E4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8DCEB00-C86B-49D2-9CDE-BC56B8CC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075FD5-422F-427D-B48A-411D8C16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EBE16C-7EFD-4BFB-915E-BB9B916D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2D5DE3-13FB-401C-A736-6E0BBD42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735201-5DF6-4EDA-B5B5-B0CF464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729262-61D7-43CC-A690-3E01350E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9853CA-8119-46B5-A47A-EBF14076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32F8E8-135E-4D09-9D29-67A29376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3CFDCF-363C-411F-8214-BE2032F5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7DCB3E2-7192-4A30-82E2-69419BE0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B2E2-1849-4B7A-B63E-451FF500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4380171-2C0B-4380-AA2B-D8DD19A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0EE18BB-0BE8-403A-A542-2F73AE9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769E75-9A96-44F1-8998-3B7AB486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A0AAAA-6290-4F12-A12D-E6A828C3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11BCE5F-A27A-4398-8E67-1521D33A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ECB2F3-A07F-4722-9A8E-36520DB7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BA8BED-78DE-492E-B459-F54F6C3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6D8CAF8-885F-4765-BE83-99D64D4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B4F176-8A8F-4AF3-B21B-5457B6F9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EC09959-C060-448D-9989-BFD523D4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F99-5C5C-456F-9575-9FEED8F1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EED8-A4D0-445A-8B19-F39ED6DC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59996F9-6FE3-41E4-AC77-FDC68AF0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E600FA-D746-4227-9E9F-B36EBE96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ED655DC-C668-46A1-98A5-DBB1099A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E3C045-096F-49D7-A7BF-A755C6F1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27E44E8-BFAB-48D9-A157-44552546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9E59056-881F-45C5-AF32-CDBCB652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E1F5E0-8FB7-4186-ACC2-881CB7D3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AAF18E8-8CE9-43D0-B26B-DDFB807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C7C0D5F-7933-4625-A220-7B2C648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14BCF99-36E2-4EC5-90F3-4729F35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AFD49-9307-4612-8B44-40C7489F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FE44D8A-9C7A-45E4-87CA-C7EB0BF0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0FD822-E1D9-4552-B5B8-9D83A15D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E9380C3-90B1-4800-989B-938783BB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FC101C-3413-4279-A6F3-A672A769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2773C9-EB5F-45B0-B76C-0984EAC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17D5FB-F50D-4668-BE68-AC39E86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646350D-ECFB-4FE8-8227-E1CBDEA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561EADE-A5F4-4356-89E8-D34C0C3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A49F8A-8885-498A-A2E3-EEC08F3F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3CB98F-4B9A-4561-AC71-935B02CA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3840-2700-46DA-B48F-5F8BDA7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1BF147-3487-4A22-A0CB-499FDF2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876D69-C9A1-45D5-8B2F-F89D360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3D3BE4E-02DF-4696-8F71-1D6EC597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65B4582-5A4C-4348-AD10-4654883C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7A8EF6C-F69E-488B-80F1-CBE3FE19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D5687F4-CF17-4060-B7B1-F3DF3F1B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D7C6D77-527D-4B08-B35C-C84889E3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581A24-87A4-46BC-9DA3-5BB898C0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97AE54D-3CCE-494C-8B8C-46117B5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3A4141E-0ED1-4B2C-B690-ABD9E32E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F02FF-F4AB-4464-82D6-D6083C65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2B41F3A-C4FB-4F90-B4A5-F21C6EEE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82A6EFD-140A-4B9B-B6C0-5EAA9E5C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ADAE58-FBB7-47B7-A6B9-84A58882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8673D17-7B16-4902-99E8-42218D5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5BFD28B-49E6-48ED-9B69-3CA0E5F0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2092C7-0E83-462E-9A71-DE887461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5099EED-56D1-4B69-B736-5E7C7928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022C967-0E4F-451E-BD05-E7951076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9CE7AE-E450-4AF4-BC30-88B2557D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D5DBD8-4F49-4CBF-A65C-D5235964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52272-50BF-40E4-AC73-9E6BF172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D18823C-670A-408E-905A-FD51DF8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335295D-F5E1-47BD-A066-AD689E45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AE0CDE-222A-4DC9-AA30-9995875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F12FD71-6A90-489E-BA12-F0CB39D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6F30D1-3883-49AB-A064-CEDE974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DB548D-BEF1-4C1B-ACB5-0A2DD15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118D238-DB27-4BA1-8056-EF91F542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CD8AFC5-C303-407E-A44C-D24C24A0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B5AF3CA-7E3F-475D-8D4C-F76E7BFB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96A816-97BA-48AD-9388-EF844B53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30F8-8701-4A87-BC96-F180E49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D2185F7-59A5-4B59-8228-0B7AA9B3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E26036E-F7EA-4B6D-A947-0199234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63DF4B1-BB9D-41AB-A0A8-86AC74A6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2124F70-3236-4EF7-9B4C-037348C0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DA0C184-E074-4E10-B336-F3B3CA25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49C821-0324-4328-8CFC-D95B86F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E090BA5-7754-4967-ABF1-F889519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78514B0-FAB0-45B7-8E24-75EFC8E8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CA4FE5C-706A-4DB7-AA23-AD8EC351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621CD51-DB3E-47CA-BF9E-4EFDC767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CB85-1083-4EE5-BAF3-155D7C9D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6C4A177-AC41-42DE-9282-0E4AA324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A355FA-0670-49E6-A6AA-BE5269C4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4FBDA3D-B79F-48F1-BC49-EDE8CD24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F02747B-A5B4-4823-949F-60FB69DA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7E8054-A676-4294-A662-CF1C0D0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70281E5-61A5-4BCB-98B3-DDD390B8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E990502-2989-4929-B760-B87D4972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EAA1433-75F5-46D9-B2D6-1A33CEC9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74A0A9-C550-4811-A103-4FE350C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5A5A488-42B9-438C-9E3D-3E37FD4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6FA5-D6F1-4D6D-8F25-44785812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3B3482E-08A3-4A83-9E15-C83D0D0D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30FEA9E-C68A-42B0-B0C6-724E766B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D696D3-F488-45F0-857C-2F7A37F4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2A654DD-8458-4296-B711-4C1426A6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1066B8A-8F75-4DE1-8C38-E9639557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69EE922-5AC7-4EB9-B054-FEC709A3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CF22411-799F-4586-ABB4-CA430405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6C679EB-B4EC-4CD1-B743-9854521F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D0C1B2C-DF25-4C78-B097-7BBE366B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32660F4-C2CB-4607-A026-41CDE43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DFA3-65A6-4D1E-91DE-1910625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AEC01B8-726E-4C94-AE33-33679594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FBD27E-3BCF-4B0F-BEC9-40064C3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5638FBC-9655-4372-B3F8-D113ED1C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2169886-0B96-422D-AA89-21B3DD27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665599C-8D78-4634-94E1-5FC49433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88201A3-3D97-4D01-BA30-5F0189B2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DEA7397-AA6D-4184-B21F-637FA777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D85631C-BF45-4B17-89D5-8DBA484F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6C660DB-B004-48A9-896C-D16FF87F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22A142-28BD-485E-A626-AA7F60B7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2F62D-3C3C-40FF-8ECD-069033E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F7D5F70-41F3-411E-8FE9-449BE196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02B964D-9012-4AF0-A9B8-28D31109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2098C94-3D4E-46BE-91C0-2BF2C78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A793DDD-43D7-4EFC-BE10-94551C9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35E3F8E-68ED-4093-B58C-A1841ECA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E3BF4C7-9729-46B4-AF07-6AE0E441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99845BD-3321-4317-8FEE-3FCA3859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15EF1D1-BE0A-4CCF-852B-EAB37C3B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C5A773A-C0EE-4DC0-BA1D-7585D81E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AB48FB1-35CF-4FAB-A8E0-2F8EFAE9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DE5-3FCE-4F2B-B90C-7124A0F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31ED-510F-4D69-9564-C061B8C4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F90775-0684-41B8-8D41-7292790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D33A357-4F03-4515-A4ED-3E29B2A8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CEE16F7-F4E6-489E-8ACD-048C8762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A2E04F9-517E-4B14-A125-59FCF741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FDF6D08-4495-4F42-8999-CA2786D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EEBA168-1944-4E5F-BB41-F7683F8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9BB1FA8-AD50-464B-A6A0-2AA61F40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92A7455-13A5-4E19-99B5-35AB6FAE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06700CF-E034-4B64-8847-30B4870F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13DA22B-1225-403D-9E42-49C27FAA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C58AA-F64F-4F89-890E-EBAF14C9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946603D-E4A4-4B29-9B6C-4D1416D2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54B5347-FE94-4A8B-A610-568B74DB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47B448-F91B-4102-B23A-216A0D2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F4B83DF-9DD6-4B99-AB29-81998F00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B1182F-0277-4735-A7A2-D65EF760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E3D4C01-0A19-4DC7-BCA3-DFC0425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F58E182-8D8B-445F-946A-2B785DF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FB37C0F-BF5F-4491-951B-4902057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A968F9-603E-40FA-B121-BAD434AB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DFEDEA-97AE-422B-8A93-012D3E0B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232A5-AAD6-48E3-B083-BEBD2FC1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1E9E4E1-A940-43B5-B679-E5F88482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A9A6491-108F-4006-919F-DBF55042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95700DE-7DBD-4586-9DE8-5CB534F1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D190A28-8AFA-4C6D-94ED-5A23AEB3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796C79D-2D4B-49E2-B33B-27F34A30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055500E-30F7-4B90-A73B-C61052FE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80143CC-35F1-4C28-BD87-57A56B9E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5FD5A99-CCA8-496E-9E90-C093F0E0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33CCBF3-CE27-4A85-AB20-F1895E44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039CE42-CD2E-4054-A9EA-A873BCA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08681-2E56-4F77-A49C-479FE06E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5F79BAE-BBC1-4C39-A595-58105D96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A70ACFE-2ED3-4895-B543-B1F37E5F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80CAE6D-E9BA-4C7E-889F-F32A1522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E767AB1-9ED5-4F6B-A6CF-75CACABD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1FABE1F-F311-41B2-BE3B-2611C9C5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C36FD3A-44B0-49C5-81C6-71EFFE0D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C962959-B410-474D-8A16-1D6FDF19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550EAF9-4D4C-44AA-B0A0-94995268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88A483E-0679-454E-9A59-40B927C6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BC48A1B-E95C-4F87-8968-853E324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2C69B-3274-4FF6-AA3C-2C208EEB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324AF76-595B-46C6-8C1C-58AFA94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1E3FDCF-D08E-4628-81F1-F02B0E7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B9AAC8C-F3F5-4A48-B8EA-FAFEA079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1B05B91-9FC7-4A08-A651-0C34C8B9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E723665-F119-4E60-BE36-84E8A27C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114A833-CE0E-40EF-B866-BD90F642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A523AC9-7B69-4231-82C3-579CD582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3D38DAC-A73B-4D26-9BA0-C6E35F2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29C0445-DF55-4095-8DE7-997AA312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3560E27-5FB8-4B53-A5FB-5889AE7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ACA84-F599-49D1-BF1B-376412DC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8D90C26-C6AE-4E24-804B-9A8865D3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FA7A741-0552-4216-BEAA-D27C0461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654BAE9-0F73-45A2-B5FD-B48302B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FDB9F3B-835F-42E1-B859-138C20C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63E8EA1-14D7-447C-A287-C18D679C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2BEB3B7-DEBC-4C9B-8285-92F78621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9094A1C-FBC4-4E47-BC38-967D98C3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65527DA-850E-4FB4-A97A-E873A5F8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FAE3614-6500-4700-9609-177D5C38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C26EC9A-67B9-4A74-A13C-9CA69DB1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FAF20-69C7-4E6F-98A6-3848AEC5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B79C88C-86AF-4D95-B372-24083AD9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44BCB6-CDB7-4B5A-86FA-C7AE7A8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79DA184-2BEA-4035-9F13-9940E15D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A5FF0DF-BAF2-470A-95FF-6E3C654F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5148516-5356-449B-A4F4-351FBD5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84464AF-6DFF-4C6C-9B5D-F250CFA2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9F47E3-FAF7-479A-9B2B-034885DF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ADF3385-D2DE-4E7A-A68A-15479203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FC03E36-EA56-45F7-90D2-F4F6CF45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271F8A9-184D-4B19-B943-EF386882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53102-F4F7-4AAD-A191-2B6003F6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9E9751A-CA95-407E-A2B1-82669AFA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D77182D-3CFA-4F55-B859-3F991DCB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817B5AB-959A-4867-874E-5C1B689D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88CB62F-ACB5-4F6C-A744-99F5989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F5F6D1B-3F89-4403-91BC-48D7089B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17C5371-A467-4814-ADC2-85FE92E4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1BD7AE0-D82D-461E-B5FC-DED07B0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894C0CC-302A-4CDE-B7F5-E2F77089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A054594-CD4E-4CBF-AF02-9646C90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5A131FB-982B-4349-AEA8-1F23472E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D415E-7937-4783-98B3-84E75107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BC85A24-51DB-4CA6-98A8-95E7FA1A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86A559F-832E-4777-BD55-3903DB1A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187E8A6-2AC7-4FDE-B727-26681E34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FC396A6-959F-4F44-A366-DB2A52A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FC2A10A-1518-4E9B-8904-5024BA3D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4BC7AB2-7672-4F66-AB39-FB91B45F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5E42478-8EB4-4253-95A9-70A82AA3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096D7D7-D11C-444A-9B41-37F9510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9939D8-49AA-467F-88C2-87BC595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A847EB5-F3BD-4C7D-B318-40C5A2E4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401D0-54AF-4475-9767-819B5F5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19F4A77-6E30-4725-BBD7-B0293973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2842847-5EA8-478F-8F0E-0E641D6E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07D23C6-A0AC-4093-82D6-EC3E6C41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290DF91-008B-4431-ABF3-35DB779D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9E25058-B11B-4D47-AA29-3B344B8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C359F93-8C61-485C-B64B-4154E6AE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D7FC74A-F5B9-4EB8-9E84-BD6A488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5709623-39D5-4052-8899-E804AB8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1671866-1FF8-495B-A62F-F20DBE6B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404B53D-1FBF-4BFD-9745-74833D47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8D7-0111-4274-B87D-74BD03CF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ED3C-F85A-4E72-A535-1E8F85C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F065E8A-1D30-42BF-82EF-42690A3F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24C3C29-161F-4C93-98CA-1365046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787AD75-2926-4E6A-9C8A-A110006B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C8B9625-238D-4DF3-B25C-FC2C90DD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42D891C-C164-4DBB-B3F7-5D974CCD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8F6A276-AD9C-41AC-8112-1463E118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E54367D-A96C-4CDF-B567-1F1C769A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F6914B3-7075-40AA-969E-DBE7264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95241F0-B41B-4C1F-BECC-25B42BAF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7795F7B-EE6A-4FCC-AAA0-D43EB85C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A5EC3-1AC0-4CA2-9AF3-3DF82B1E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4B8040D-DF0A-4C39-B7F2-D67EB146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00F0033-1379-42AA-BC97-DBF2E542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65069B3-7C7E-46B1-9B64-CE71EAE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5D462CE-C76D-49C7-A060-E7A9160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0CC128C-7059-45E5-B742-769CE7E1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4F99B4A-5524-4E25-A623-50B62F65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7DF8260-5504-4502-9423-9495C4D4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D918EB1-2A6D-4122-8566-8F6488B9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91757C2-0B40-4630-9F28-786339B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6F8A94E-BAAF-4E8A-80C2-9E73FE64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C3F22-3BA8-45E2-A96B-77888F8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2C26690-BA85-44AA-AFE1-E364C09D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45FB241-C45E-4972-90F6-F26D0D4D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1543AEA-7A05-4127-B7D2-A1E5DBC6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85A79BE-2BC8-4626-90AB-54AC292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31D5290-1E42-4B1C-A917-03074ED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884CDD4-5861-4530-8437-F4DAF4DE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336F88A-A29B-4D8C-B9F4-014AB853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48B6BEA-1477-48DD-A575-1E6A5CEC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A9F1F1F-B600-44B8-9995-93BC312B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5730FC1-831C-437A-85BE-F201E312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3CB8F-8B54-4958-BDDC-192F2AB6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AC4BFDC-B60E-416A-8B70-1864321B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AD55573-00AE-4435-9E87-61B2FA2D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F0670AF-4611-4C1C-BFC8-A5878F62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66A7F81-E7CC-4BB0-B3B9-0E145BFA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A0C9BA3-6A02-4377-B763-48ED54B1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BEE5ED6-9D05-4FB0-A0D7-59D4CF51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6A691D9-824E-4DB1-9EDB-98428DC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FF26A15-2365-40EE-8630-DA38721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C3626FA-F8EB-4C26-B1DA-7462002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CEC04C4-20E4-4EFF-BF31-4D7CD803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392A0-50AC-4DA4-B98C-82BCCC9B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C2636CB-33CF-4BBA-A4C3-FEA6D4D0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AAB205F-BB79-4B91-9890-3941DB33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7F00F0F-D4FE-4B51-91F3-2C0738AE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C7FE9E1-80B8-46BA-BAD6-C1A14937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3CF4CE2-FE8D-46A1-89F6-B9848FD2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A65D88F-CCC5-48D4-AC8D-7465B375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833A01C-6706-4440-8300-9227C40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6C852D4-A0D2-4949-B7F9-2C46722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6A95D95-4363-4F1D-99FA-BA792CC3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73F4583-C715-46EC-B20A-9B30FC5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41730-DC81-4E5C-B0EB-DD790E3D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3281C8E-0373-492C-872C-75E74250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1712E17-F0E4-4573-8155-73895129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7AD4CD2-F848-4AAE-959F-7888C5A2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53EF0A5-FA5F-48FE-986F-40A2B7FD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CDC48BD-94C2-46C3-A0C5-81D74C5A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222C620-5537-4B36-A268-83F641BF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A7ECC2E-F5F2-41DB-8BEE-FD61CC31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3E34ADA-885A-4547-8D7A-81689D4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B314C22-8556-484C-BA71-52DED77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F2B2409-291D-45B1-AFC7-0884775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1024-ED67-421B-A800-B597BD4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8442B44-837B-43C3-AADB-E433847E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DB8187D-6696-4B15-9E49-2A779B5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2B59C59-7088-4ACF-A746-659437AA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2D602A4-399C-4A80-A368-3FC75F68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B1FB3F6-DD22-4386-B26C-343B14C2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8E4669B-22D2-432E-86C4-5B89A9A8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E8BDAA6-C4F7-4610-A07A-008F5E7F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3BDD901-2440-4D3C-9637-A23E40C5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8B1B7A20-85F0-466D-856A-7F483C07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FD2D9AB-88E3-463E-B328-0B640F6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E421F-AF39-4B63-980D-F5B434BD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180F4D5-823A-46CD-B01B-55A3343A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64E9C69-587D-4282-89DD-09257DD8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7BF8619-84D1-46DB-87CD-97DF9E10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D31B12F-1C31-4721-88BE-79CCD787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2CDD632-651E-457F-B5B6-0CB4894E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C169275-8830-4131-977C-2B34E72F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9383A21-3556-4C1D-9B1B-8E05050E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3693312-E902-4CF0-887F-2B1B0BAE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47F14EF-0C46-44F0-B708-BFA418F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1490AD7-9C01-4F12-8E35-B2A7FC59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E933F-13F8-4FFB-BD29-46473480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D023DB8-2E11-43AC-908D-859A6365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203E7B0-AE1C-4869-B5EB-80FB10B3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EEB17A9-3695-4D74-8427-6CD4232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7F9743D-1B25-46CB-B1E1-EDBDB55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048D1EF-71FC-4029-9A34-EEDED2B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B1D5DBA-4F4A-462E-B238-C4B76AF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31702BD-1C87-4CC1-99E3-C7DBCC5F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FD6E819-08B0-403C-9229-AF2E000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5D8E789-ACD2-474A-88C0-27AC4A7B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555B034-4404-4405-8B9F-B09DBDC2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BBA87-727C-4686-A559-D2C89790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6CFCC54-B838-43D9-B4BC-13F229A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CD8B407-1A04-4AD2-868B-1E0DA90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759E140-7F98-4EE0-BB6A-0DFEA84A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B45A38D-0943-4115-992C-DE8349B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BFCA04B-E0D9-41FF-8F55-69882F8A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0F7B53B-7672-424E-A50D-A4C5C2C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6C85734-FE4E-46D4-B111-048B743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BC70989-FA6F-49C1-B0F8-2E3C1814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7296C2C-FCB8-4DDA-A78D-B0914B4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3F0CA3D-1CD7-4A00-B911-1138863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F38-178B-4EF3-BF6D-9DC15C0B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4F76E-EBC6-44DE-9C71-49AD0A02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D5268BA-4A81-42EE-8024-D9BA50CF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1E2DEBE-2E59-4D1F-8147-A0D12E58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0E18034-D48D-4D67-BD13-9FCC119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769E617-E81E-4E44-BCDD-F9DAD0BD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E73DCBD-F905-448F-9AD4-2C04986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4997808-5BDB-4E26-B4B2-7089901A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C689F75-A0B6-4DD5-BC7C-7ACEC634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2E1B9C7-2A13-4EBB-9234-FA66C6B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0E2DAE7-69E9-443A-81B0-4FBF93C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0C06815-898D-4271-9DEF-53DF876F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0BF3B-459B-4AD9-9801-2B8C6EFF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CE0576C-D59F-4F78-87FA-2857E69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FE43EDC-78AC-4922-8CE8-FA83B1C5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00828DA-4654-4072-900C-92E222CE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40BEAC1-3453-421A-B763-38EFA25F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8ACFC73-522C-4801-80B3-C0EEDC0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D445492-1A74-4005-B3E2-5C09A481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88CFE1-C9A9-4BF6-8776-53BDEEF6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53B0FB3-F3E7-407B-A1A4-9314D63C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6C082C-D097-49BD-9921-6447BE79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0C873D8-70AD-4943-8AE1-44223FF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BA076-A789-4F5D-A273-E1608E5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E2C7F15-71E2-4810-ABA0-C36377BF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00517D1-EF00-4447-B9E5-5E43B8D2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A26AFB0-3A74-4A22-91AE-7A53F39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814560F-7F6E-4C11-9337-2860DF13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854CF45-260B-4B54-B573-161469E2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3E958EB-11EF-4EF7-892C-811F46A2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570AD71-55DF-49AD-AF46-BB533C9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F9B54F7-CB72-4C23-8BAE-EDB8A9A4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5580D6D-E003-451D-A443-732ECE69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E009E2B-B135-451E-A8C1-E4D03D6B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60C3E-5E18-45E4-9DE3-3E9E304E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C56F025-05AA-4B35-9D7D-9E1FA1AA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AB6776F-0670-4E86-9813-9EFE2D4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A925287-227F-4856-B296-BBD953C2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2604F83-D7BD-4B3B-B5E9-DB43C9A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EE2FC8F-AB26-4B29-8258-349D399C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7C4BA61-D25A-4A3C-87A7-D21F38CD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4E7741D-F595-4C01-95B9-BD1D0020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19CB9EB-B315-4106-931C-2109D508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22DB4FA-5D49-4A12-877C-6ACE92DD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D2CC3B8-2A21-4805-8157-EFEA801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C0518-5E4A-402C-AE1E-6EC9FA5F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21D2109-2BB2-47B7-BF38-BD581502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A979B37-B9E8-4655-95A4-B5DCB0A2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CB506E5-9DB4-423E-BB3C-C7773000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F4636A5-1C14-4C9B-B0C8-D549BE15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BF5A969-F1F9-4D8F-A51D-9CA9997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E71F8CF-069B-4D04-9123-BF2CA525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9CF3E2C-3C3D-4299-A9D4-7851339D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897C3FC-5893-4E32-A963-27DBF437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5E4A35A-EC5D-4542-BE9F-062DBE53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3128CA8-908C-4142-BCA9-3E4AC149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0B3F5-274E-48B8-B182-CA414E7C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A4344F8-B3C4-40E5-971D-3A977166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C711E01-EC31-4999-A32D-A1E5215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0BC1631-C567-44A0-AA72-83D6BC3A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75AFD18-3525-429E-89F3-4133503E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08476A7-9187-49F5-BEC9-F53C381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129418C-63A2-4235-A5AF-B41BEDA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A45CCF3-CEDF-4B46-B09E-441CC70A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BCC3A41E-ADD4-4922-881C-4532036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1D9EEE1-BA3E-4C35-8F7E-E53FE679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942A5A6-58C8-4BB9-9E6A-408F1637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99E1F-CA45-4A4C-A71B-C06F239B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B56337D-63DD-4FE9-BC42-69F86B70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163072A-A0E1-4F16-973B-33400AA9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26B62B2-73E8-4217-88FD-2C69EB46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831D405-DE4D-479A-9BCB-006F19C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672FB45-0CF7-4373-A926-869CE103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3B5ABE6-9D76-42A8-AC90-1852EB06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540EFCB-3168-4303-9F49-69500D0E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805AF18-450A-47A4-96BB-DC9DD5E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5D5ED2A-2591-452D-81FB-9D859B4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0678140-E406-4216-AF6A-76BFFD4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98892-D035-4BF5-B104-E5D8A86C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3FDA716-8112-4168-9E54-FA57DE0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ADBCD38-86CB-404B-A2BD-F7CD1B31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D756AF4-8586-47AD-B423-88872121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D59694C-352D-47A9-97EC-7967A4D8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B1DA58C-1240-4440-95D7-049CE0C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4CF2F44-4835-4C00-AA7B-1D29B058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E533242-AA14-451E-A695-E1E89A8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733A174-0AD2-4E33-9C35-6BE80A3F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CC761E8-196F-4411-BB90-06C0752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CE38821-6AAA-4AF0-AA68-B21CD620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D89AB-1946-44CA-87D7-4E5D424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B76FEE7-D722-4F98-AA66-D8FD514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78CDD14-4525-4CCC-B335-D4414C2A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6DF951E-7FDA-4FC7-8E0C-0FA4CB1B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9F69F6E-8074-438F-8274-5A97F4A9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A8EA650-1B2B-4F7C-8FEB-1E655F48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67EF131-D891-4549-A42C-953371FD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356A50E-924A-451D-AA7A-4A2BC4D7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B5EC475-914D-44C7-BCE8-7488B2F9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E2AA0FA-AEAD-4A0D-9866-49B5FBCA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DDD26B2-4770-4D81-94CF-9609760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3BBEF-209A-4D3A-A5B3-27BC896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4A05D01-E984-4B8D-B441-3E915EA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3127B8F-50A5-4270-A1C3-426AA315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E5BE321-FE6D-4332-9FF2-CADFE42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FAEE7C4-E035-403C-8BC4-0ACF728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B570AB9-6ECE-4CE7-950F-91F98FCA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3F0F480-FCC0-44B5-8D1B-E4BF1BB5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DC5BA0F-61DD-4E86-A0A8-3ADFDE05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D41649D-9438-40CF-8147-3EB255EE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81FAD19-1D5A-4B6C-B541-70A40EA4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41C1C07-50BC-4B3F-93C4-A04621B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A80E-C65E-4F3E-8805-3F22047F59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94E2-4F03-49BE-8E9E-3B18D80483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4E55-A3E0-45DC-8F7F-10CC65791C1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6201-782D-429C-8F64-EF01BBC1FF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7083-AE93-4DC7-A3B4-DA65FC237D1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705E-C685-4069-8CD6-C9CAD6DB5C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AEA0-05E4-4CA9-B7A7-15FFDC01F20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F3A-D4B6-4053-87AC-5BE2E33757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77E-4514-475D-B0F1-494FDEB59F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539C-E437-4716-9038-BA053E0DD7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07C8-556E-415E-9EA6-AAD8F087C17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566F-B43C-4D90-AB4D-1078D32F02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FA6C-F89C-46D3-B633-80B244DFF13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CBAB-7918-4133-9A26-41CEB71B903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45BA-ABC3-4F50-BD94-FE01581863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EAD6-A908-4D75-9CE2-FC429C9F69E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0506-6D40-4A55-9264-145390ACD1C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184-58E1-4C08-86C9-F615556F4B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66A-9A8E-4B23-8C0B-BF1729FF1E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FCF-C9DE-40DC-A645-AE017D92CB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5A6B-8D24-4029-9BD0-7ADB27E713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FDF6-23DA-47F0-A7DA-AC5BED4A46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105-2A42-4CA0-AD92-0CA8101AAD8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5122-AAA8-417D-AE5B-F8922901853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2329-AB76-4EF0-8950-92E15C8490A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7297-4396-4B50-9E84-4B51AE912A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84E-8657-43F6-9E44-72805E48DE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4C2D-E59D-468A-BE42-462D09AF32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2C4-820C-4B32-8E25-518352E447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FE70-3896-4BF2-AF22-A66BB9F8622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7E9C-4121-4DDE-B7C8-A7D33F8ADD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89C6-A780-4542-91F6-D51CCAE9B5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F57B-BF5A-4E3E-B780-DBB5CF9DF0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E24-A3B3-4DC5-BD6D-77CD8E2ECD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3D0A-4A24-4E8E-82DF-81DDC8D1A8C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6408-8EBB-4352-86E0-6ABEC314B73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C3A-D2E8-4879-91FC-7C582EE6216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381F-63BE-4413-9668-B972FEF48BD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5A50-DCC7-4793-931D-EAD32B1FB79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E4EF-1B82-4990-A7F3-1DE72D40A7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846E-44CF-49E4-A854-26423DBC61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B01-7BF8-4E03-947C-486AC88A92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E9C3-A179-42AF-BE9F-C25D812472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4F2F-3DB6-441A-ADB9-440B4C04A2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2B39-38C2-42F1-8EFF-A793FB17BAC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261A-562E-48B8-A712-C022C0F6B8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81C5-BF8A-4662-BE3C-0B382E14DA6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89B-70DB-4929-9CC7-20BE7B9982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479-541A-4F4A-8622-E7BAB77309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74E-110F-48B0-B5DF-DCB52D52C2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D093-D49C-4C53-8237-888F139F24C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A4A2-CA08-43F6-BCF4-85461B69D29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2E4D-DF09-446B-9E2F-4127C47BD18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AAB4-F52A-4600-9CDE-2672F5E67D5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467-E612-4575-9E78-B516F163449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89EE-2674-4BF1-80BA-E22BC89C97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C05-1F7F-4544-B2BF-A957238E56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C464-4D0B-42CF-860C-7A6B8A9026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6624-60E2-4DE7-B4AA-F0B37F21668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6A1F-80BA-4E6D-9AF9-AFFBAE7372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6DF0-C502-4E70-BD6E-10FCCD623D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5FAA-B56F-4F1C-8C91-9D028289B8D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F446-E931-4131-8395-DB4F6324480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6761-4277-49A2-840D-60850173D7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B3B7-35A4-4CC2-B397-1FB68AABC10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C95B-BBDF-482A-A1F8-8F89421274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9ED5-048D-4A1A-8069-ABF852CEC2F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9615-D0A6-4283-803A-D314BF97CE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0ED9-F3A8-488A-8F7A-4EA6EF7C86F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341-E166-4CBC-BCBD-4378D44383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8624-0B4C-4B18-85B8-3D09B047C9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CBC-AB3A-4B4E-AC95-B21435860B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87A8-E8BC-41F2-B0F7-522DA3D289E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EB2E-6EDE-4E6D-BFFC-7E77CCAEBA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460F-76A8-439D-8A61-08EC82A0DF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7FA5-A4A6-4FEF-8E12-7D6449D658E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0D20-9640-4632-B270-A416A998DA0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521D-47DF-4E83-9E56-1B05F2DE66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648-B4F9-44B9-971B-776319936DE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BDC8-65ED-4434-B96E-66FE283ED6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7F21-0356-4B61-8219-C6021A14FB9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6F0C-6606-4C0C-95E3-CC3A7EA2629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44D4-57A2-4221-9967-AECF295285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3C0A-4AAB-44AB-AFAD-98D8B9F19B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86FE-3807-4525-A8DB-1B6D77C3BD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C984-F2CF-46D5-B614-538CAA971B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451F-E7C2-45E9-9A67-CFD8712D12A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61F-572F-4B9E-A957-CF5F462C3E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0B95-F534-492E-A5D4-C294DC8472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9CDA-CEBB-476B-89FF-F4682E0913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0C34-21E6-493B-B7B3-7E56D731534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BBFB-23F0-45BD-81A4-E502D6F2E7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EF8-8562-47AE-A56D-5F0576F0B50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E975-88C7-437C-BD34-BF2C7D6DEC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BB32-D5B5-4BD8-B79B-5A595C00769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9392-CFB3-4C0B-AC79-E6082772909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27CD-9366-4545-B3F5-33DF9BBFFC4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3899-1D3D-4BCA-A815-0ED69C35554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E3D0-8B2A-449A-929A-ABB9235F2B7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4771-96F6-47D6-8500-AD82FB9B6F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645F-9E6E-4289-B8F8-7F4F7D2702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6A4B-8A2B-4659-B358-96027D2C94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2D6E-CF06-44C9-8671-6AFC410A787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B6A-BB0E-435C-9AE1-9EA083BF4C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 type="dt" idx="4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5DFC-9F08-4E38-B8FF-191E8B11CB9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PlaceHolder 4"/>
          <p:cNvSpPr>
            <a:spLocks noGrp="1"/>
          </p:cNvSpPr>
          <p:nvPr>
            <p:ph type="ftr" idx="4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PlaceHolder 5"/>
          <p:cNvSpPr>
            <a:spLocks noGrp="1"/>
          </p:cNvSpPr>
          <p:nvPr>
            <p:ph type="sldNum" idx="4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D67-236C-4B49-BF67-9C8BB01B66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 type="dt" idx="4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2C71-5876-4F74-87B6-828050F1B4C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 type="ftr" idx="4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PlaceHolder 5"/>
          <p:cNvSpPr>
            <a:spLocks noGrp="1"/>
          </p:cNvSpPr>
          <p:nvPr>
            <p:ph type="sldNum" idx="4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8EED-1C96-4871-B93E-9D6B31A8BA1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 type="dt" idx="4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6861-427C-49D9-A784-DDF76DB613C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 type="ftr" idx="4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 type="sldNum" idx="4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F76-0100-4C57-885D-3358A62A69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 type="dt" idx="4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79F-A0D7-4BE9-8104-9433248B3D4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 type="ftr" idx="4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 type="sldNum" idx="4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B64D-45D6-4F44-8771-9A8EC32C1A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3882-6B0F-4B8C-A448-1E4EC39BC6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0403-AF01-48CB-ADFD-DB97D264AD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 type="dt" idx="4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BFFC-3709-49E6-B3CD-DA5E51CA87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 type="ftr" idx="4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3" name="PlaceHolder 5"/>
          <p:cNvSpPr>
            <a:spLocks noGrp="1"/>
          </p:cNvSpPr>
          <p:nvPr>
            <p:ph type="sldNum" idx="4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04C-8839-4107-B4AE-1880ED7735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 type="dt" idx="4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B8CB-EF89-4234-8620-5B67A1E8C46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PlaceHolder 4"/>
          <p:cNvSpPr>
            <a:spLocks noGrp="1"/>
          </p:cNvSpPr>
          <p:nvPr>
            <p:ph type="ftr" idx="4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PlaceHolder 5"/>
          <p:cNvSpPr>
            <a:spLocks noGrp="1"/>
          </p:cNvSpPr>
          <p:nvPr>
            <p:ph type="sldNum" idx="4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F18D-112C-4D35-9927-3DCF44DFA2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 type="dt" idx="4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4BC6-8213-4135-A244-64D8467A284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4"/>
          <p:cNvSpPr>
            <a:spLocks noGrp="1"/>
          </p:cNvSpPr>
          <p:nvPr>
            <p:ph type="ftr" idx="4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PlaceHolder 5"/>
          <p:cNvSpPr>
            <a:spLocks noGrp="1"/>
          </p:cNvSpPr>
          <p:nvPr>
            <p:ph type="sldNum" idx="4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319E-23F7-46DB-A779-85162F818A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 type="dt" idx="4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C6FC-3D34-4ABB-B2FD-D4654EE9BA2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PlaceHolder 4"/>
          <p:cNvSpPr>
            <a:spLocks noGrp="1"/>
          </p:cNvSpPr>
          <p:nvPr>
            <p:ph type="ftr" idx="4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6" name="PlaceHolder 5"/>
          <p:cNvSpPr>
            <a:spLocks noGrp="1"/>
          </p:cNvSpPr>
          <p:nvPr>
            <p:ph type="sldNum" idx="4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8C2-9FF6-4F8C-87B3-039DFED844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 type="dt" idx="4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79B-E8E6-4903-8B36-399DF96375D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 type="ftr" idx="4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PlaceHolder 5"/>
          <p:cNvSpPr>
            <a:spLocks noGrp="1"/>
          </p:cNvSpPr>
          <p:nvPr>
            <p:ph type="sldNum" idx="4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D497-6093-4A26-8200-BF79BA4321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 type="dt" idx="4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CDDC-10A3-44AB-AFAF-BD90F470382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 type="ftr" idx="4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PlaceHolder 5"/>
          <p:cNvSpPr>
            <a:spLocks noGrp="1"/>
          </p:cNvSpPr>
          <p:nvPr>
            <p:ph type="sldNum" idx="4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D2AE-A378-42B1-94A1-01879A62AC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 type="dt" idx="4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F2A7-4983-40C9-A9BE-2EF0FB7A52F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 type="ftr" idx="4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PlaceHolder 5"/>
          <p:cNvSpPr>
            <a:spLocks noGrp="1"/>
          </p:cNvSpPr>
          <p:nvPr>
            <p:ph type="sldNum" idx="4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966A-8A98-4DD6-B147-1587347453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 type="dt" idx="4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3AFD-1C18-426A-9326-3A42AF7D28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 type="ftr" idx="4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0" name="PlaceHolder 5"/>
          <p:cNvSpPr>
            <a:spLocks noGrp="1"/>
          </p:cNvSpPr>
          <p:nvPr>
            <p:ph type="sldNum" idx="4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D9EA-EEE0-4695-B173-DD394CB4D8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E64B-A923-404E-BE6D-1D0DE9DEFE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AFB-7D3C-491A-864C-7BD4B6BE86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073-78B5-479A-A9D7-D2A95DCE56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E83-78CA-4D10-9179-216A0CC0AF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3EB-ECA4-416E-AA8B-64BEA1B4D95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48D-593A-48C3-8738-1CFCFE2DBF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33B5-B3DB-4AE6-99AC-C64DDC4965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5C44-573A-4A16-A7FD-4B74957B68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6A74-D48D-49F6-8E07-1CC87B38A5F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C288-1D7C-4EB0-A295-0166E31009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EEFD-55F3-47DB-AD2E-E624593B477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854-4B6A-4412-A358-5D1B173BB6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F1FC-6FE4-48A6-BA2E-16720A4AE7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DFB-2D53-4247-9286-6592AEAB13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8CE-0A83-4D9F-9B10-0EEA120CDCE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517-5396-4818-8A04-4869588DF9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632D-CA95-4DEB-88A6-ADFFF4FC46A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F052-538E-4B08-A152-06B17DE1970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732B-82B3-4D79-8A69-40D57E1E7C6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AE22-3F4A-4439-9644-37C96F8837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3BCF-AFBD-4BAA-8901-BE9DC28A49E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741C-5606-4DDA-839A-328C2691C9D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7B63-FB4D-4F3B-A636-2429E131F88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1BE-3474-40E4-9A7C-B397BE5B6F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E21D-6E68-46B0-8424-7545A5487E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3D0A-9B6A-44A3-9F9A-BEB02893786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6D3E-3BE3-48C3-8BFC-2CB923D413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F88-ADD0-435A-844A-1F90C36838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FF09-7A8E-41E7-A870-D22804B2478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716E-9EB6-44C0-A3C3-15E8474BDC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1666-99ED-4FCF-A15F-2868E30C9DF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8094-5560-494D-B7EF-94F76D1FBD2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F667-A903-48CB-BB7E-64FBF635E59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50B1-C5C5-4566-A3C6-0F90B5C516D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DF1-7CCA-4F89-AC7F-F8E04234D9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0C36-915B-4D5E-8344-3B4A460999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E189-D015-4FE9-9F55-A5AB76F76B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58E4-D308-4193-B452-4B94943691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8640-EA5D-4AB4-AA01-45A0DE7DAE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64A6-AD10-4900-9763-987368E030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63DB-3DD7-42DB-BAA8-1F2A8095C1B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747B-0667-4699-B3E6-9EA88496F3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8B7F-B837-4716-8539-B6410DFBCC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476A-3656-4488-8C4D-F2A5C49D814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E893-3BA8-411A-86F4-9FFAFC1F744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1090-25AF-4557-A890-CF1FB866CF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037D-2712-496E-A95B-A214C1A069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BCF-2CD0-4E33-84D4-3FB23F03365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991-D9E4-4427-93BA-FDB27B6996C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B4E4-F3AD-4EAB-9A5D-A2BD12FB8E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4CAF-AF84-4C20-8148-118D675D5E1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FE8F-3F5F-42AD-A9AE-0196D7617A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6A05-7867-40C5-9540-FEBAB18585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02EB-831E-4C7B-B978-190056E5C6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E2EC-CDF7-4D4F-A062-89C98378F8F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0F5-A475-4004-A530-FFA77C8A83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AE44-D068-4D25-96A8-F44BD367545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2A60-A380-44B5-8C2E-A3FBF1A8D97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2C03-48A0-4694-A6A0-1644308339F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20A4-53BC-44F0-8EF6-E810E50EF1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4E29-F331-4646-9DCB-89B635542A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55C-C257-496D-B68A-B12EFCF51F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120F-4544-4CDF-AEB9-5652AF2BCB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EB97-72C8-41B6-86D7-8154CEADE2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00B8-3010-4899-8287-390E454B55A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F882-9F4E-4528-A10A-5D7251BCA34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B94E-92A9-433D-BF7D-5ABFC93ECFB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C411-5008-44AF-A085-B9FC05D8EA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EFF-C832-483B-8939-2B89904B56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B367-6DD2-49D3-88B4-152C677D074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E541-BC92-4842-AEA3-0507635521F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4D0-78E2-43D0-B26B-05CBC050C1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B5ED-5DFE-4884-A606-C86176DDFC9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92BF-F682-4A71-8A7E-68E67A7D2D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372-EA42-4F6B-9620-A4F82A57FB5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BB7-CDFB-43C0-9FF5-45D579CCD6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DB5-D48A-4BD2-AA20-5CE92F50FF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2E6B-64F8-4569-AC6B-D7E0939B73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558-2AE1-4545-B0BB-0B1EFECE11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E54E-2C03-4114-8FAF-FE59C358E3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CA2-E963-4429-BAF1-D3269F62A27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56C-C037-485D-8BCA-E03CDD84A2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09FE-BF4B-4724-9EC2-95D6C0A720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107-1A54-4DA1-A21E-BCE18332FE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2970-C3D0-48DB-91FA-FDF070D9CC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9613-D421-4DB9-B288-64052A03D86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5448-09B1-4D36-99A9-63517C8918E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B6E3-A11F-49BB-8026-8D2F8A681B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043-6F27-43D4-83EB-B11CD12982D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78E6-8243-47DE-B0C0-45694DFBD3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E09C-5DF8-4314-BC7D-CE2FB9B5D4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573A-3320-43F3-9C13-3D785CE4FC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D58E-A1E8-4EEE-B4E8-B8C4490D483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8B6-9EAF-4ABA-BF73-D8159544813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AB35-1EF4-419F-A0B2-05792320E78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1D8D-9838-4D15-9002-233BDCDDCE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DC48-6405-4992-A2D4-E5A98F2677E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72F-FB67-41D5-A665-2217A7A96E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BBCF-DA6F-4813-AE64-3D0DDC4EBCB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5193-9A76-4750-9D20-D6BD744606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E33-4571-4D56-9818-CCC13A57F4A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5BAA-CDA6-4207-AD1B-EE67B205618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36F3-CBF9-42F5-804D-1392AFE22F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4039-5965-4B64-82D8-41C66383FC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BFD5-B219-4182-811A-FF663C2029F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8DD-6CA9-466C-A5F7-9AA80F1845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01D8-D033-4F3A-8238-19FDD56AC0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70B7-FAEF-4A59-81F3-36AAECF16A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B3F6-7BC3-4E27-9D4D-3A3EBF09E05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4C2D-7FA1-41C4-BF22-EB214E0FB2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D639-A6A6-46C3-97BE-B2A6081CAEF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5D12-FE81-4A7F-AFFB-64C0CFE777B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9AF8-AF30-4E9B-AF03-A226A91667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F5EF-BEF1-4958-AFAC-E00F67C4DDF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AED9-9C32-4A76-8269-11EB7FD782D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DBB9-AE66-4750-BF9D-2B7A9DFEB09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9B1-EC27-4765-AF9E-81F8B64D90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055-7147-41A7-892F-785F67D0F49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E6C4-3AC2-4C99-9DC0-E0AD57A36DD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3B4-629B-4D4A-9012-35C71479A4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A5BF-9E1E-4D70-AD23-320EC91411E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5A41-0F0B-42A8-814F-8657D0E903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52B5-CE4C-466B-8F54-5273998588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76B4-EDF2-4BC1-9B28-82E5911CE7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261D-78EC-4804-96D6-CDA88A06BA5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A9D4-2172-4477-A77E-0CF273EA9F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44F-2B54-455D-8C8C-F7BE36CBB6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8C1D-8CF1-478E-8B59-F872A5F472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DA83-976B-4759-AC3B-DBC380400B5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7282-7998-440F-A09D-0D2883151A8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3B7B-0758-4A0F-B6BF-B1121B9EE3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DAD3-3E26-48EB-B507-DD8A9E05E0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1FA8-A543-4C5A-A930-84EEDFAF3C3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4150-B65B-4CF0-9E90-E37379D763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80C1-52FC-43DB-AA5C-A686D6019F7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0CC7-ED94-4685-9A86-025E08F3D4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17C-93DE-435B-B7E8-F36F79EDD38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55F6-E47A-4D03-9103-42A48C801D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E5A0-0A67-4FE8-909C-3BCD1BE722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2BC4-E9B2-4C5C-BA3D-06055E0320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7EF-4E4E-4ECC-A571-1BE0E645E8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04A5-46C2-4EE1-8AF2-5AA3B218EB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8B20-0334-44F8-9A90-439252CE893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AC87-343B-4B77-8513-E4056EBD12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8EF-3715-4C4F-8A4A-6381781A81D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8FF1-806F-467E-9ED3-93174AECEA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30CD-0965-4D62-AA38-45B714A0F1E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12D-B780-4EA9-B41A-172CF8A3D2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30A-279C-4377-A3C5-EDB1D4F8575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D213-9612-4E24-8145-37D6A37D047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7B62-2DE3-4532-9B3E-7E5E2486377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E873-A7FE-4C6C-8B6D-EA60896B0F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7C1A-5A98-42A8-B36B-86AB2B6C13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097-8296-490E-9C0F-22097D96614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3D9-D3F5-4301-9AE2-2C4084C776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EAE5-D489-4FCB-B7B7-0FCF42660FF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6C7-C8AC-4E47-A4E9-006EE24E12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D1E4-F497-493A-9A72-C78742E07B9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E61F-2DE9-46B9-A44A-EF1163D5753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30D-7D8A-4469-935B-D3C1B680B1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65D1-F853-427B-951A-87C0E8AD599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83A7-FCBF-4338-BBE2-4160D1B661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971B-14DB-48BC-B38D-F7F88D92C19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E3AF-BE94-4CA4-8611-667F8348887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94CB-20E2-4C31-A96B-9D88BDE40E2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A5E-3AC8-46E4-BEE3-AF971C436E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17F4-94B4-4F65-A029-1B2E2623263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F291-493E-4F8D-B758-4BB3EF4642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A1C-16FD-4C31-86D9-057037899C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909A-1881-4BED-B14D-624FE5DBF3D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388-1CBA-48AF-9F0E-7C7C94B161A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03E-18AA-4B82-967C-F7CE252F76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E2D4-EDD6-465E-9F8C-179960D768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263A-0B7A-4CC7-90DE-69575968BB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20A0-AE50-4B5D-A609-553F925D3B6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B59-DC41-4733-99E2-58EC01AC09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28ED-EA66-4EDA-8C06-6F0F2DA5F4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EBCD-2224-4138-A3D5-D756CDF8B4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FE4E-5E3A-4841-9FAD-20AD2BBF0C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DB1-E051-4239-8BC3-03E3465609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71E-1028-40A0-9574-3F408D722F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8AD7-3B3D-4AC9-9C88-2097F371A6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1520-DA23-4DF7-B30E-9587DD7129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78DB-1A0F-443F-B382-46517118FA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8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8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TextBox 1"/>
          <p:cNvSpPr/>
          <p:nvPr/>
        </p:nvSpPr>
        <p:spPr>
          <a:xfrm>
            <a:off x="2088360" y="206280"/>
            <a:ext cx="49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WER BAN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8" name="图片 1" descr=""/>
          <p:cNvPicPr/>
          <p:nvPr/>
        </p:nvPicPr>
        <p:blipFill>
          <a:blip r:embed="rId1"/>
          <a:stretch/>
        </p:blipFill>
        <p:spPr>
          <a:xfrm>
            <a:off x="2590920" y="2030400"/>
            <a:ext cx="3962160" cy="3173400"/>
          </a:xfrm>
          <a:prstGeom prst="rect">
            <a:avLst/>
          </a:prstGeom>
          <a:ln w="0">
            <a:noFill/>
          </a:ln>
        </p:spPr>
      </p:pic>
      <p:sp>
        <p:nvSpPr>
          <p:cNvPr id="6439" name="TextBox 1"/>
          <p:cNvSpPr/>
          <p:nvPr/>
        </p:nvSpPr>
        <p:spPr>
          <a:xfrm>
            <a:off x="3146040" y="1050840"/>
            <a:ext cx="239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Manual Mod.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gnetic wireless Solar Power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0" name="TextBox 1"/>
          <p:cNvSpPr/>
          <p:nvPr/>
        </p:nvSpPr>
        <p:spPr>
          <a:xfrm>
            <a:off x="2602440" y="5467320"/>
            <a:ext cx="4737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charging is only an emergency charging method, and the efficiency of sol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nels is constrained by natural conditions such as day and night, season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graphic latitude, altitude, as well as random factors like clear or clou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ather, rain, etc. Please do not rely on solar energy as the primary means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. For everyday use, kindly use the charging cable provided by u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 the product through the adap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1" name="图片 1" descr=""/>
          <p:cNvPicPr/>
          <p:nvPr/>
        </p:nvPicPr>
        <p:blipFill>
          <a:blip r:embed="rId1"/>
          <a:stretch/>
        </p:blipFill>
        <p:spPr>
          <a:xfrm>
            <a:off x="2873520" y="1641600"/>
            <a:ext cx="4763880" cy="3749400"/>
          </a:xfrm>
          <a:prstGeom prst="rect">
            <a:avLst/>
          </a:prstGeom>
          <a:ln w="0">
            <a:noFill/>
          </a:ln>
        </p:spPr>
      </p:pic>
      <p:sp>
        <p:nvSpPr>
          <p:cNvPr id="6442" name="文本框 3"/>
          <p:cNvSpPr/>
          <p:nvPr/>
        </p:nvSpPr>
        <p:spPr>
          <a:xfrm>
            <a:off x="222120" y="2830680"/>
            <a:ext cx="8156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Calibri"/>
              </a:rPr>
              <a:t>Product Specif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del No.: T113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ttery Type: Rechargeable Lithium-ion Polymer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lar Charging Input:5.5V/100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put(Type-C): 5V⎓2A; 9V⎓2A; 2V⎓1.5A; (PD18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USB-A): 5V⎓3A; 9V⎓2A; 12V⎓1.5A; 5V⎓4.5A; (SCP22.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(Type-C): 5V⎓3A; 9V⎓2.22A; 12V⎓1.66A; (PD20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utput (Wireless charging): 5W; 10W; 15W; (15W Ma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 Time: About 3-4 hours to fill up (using PD18W char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king Temperature: 0°C-50°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Size: (L)108×(W)69×(H)22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duct Weight: ≈207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TextBox 1"/>
          <p:cNvSpPr/>
          <p:nvPr/>
        </p:nvSpPr>
        <p:spPr>
          <a:xfrm>
            <a:off x="368280" y="320760"/>
            <a:ext cx="56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Schema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(USB-A)                ② Input/Outpu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-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）     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D battery capacity indicator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st Charge Indicator      ⑤ Switch button                       ⑥ Wireless discharge area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⑦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ar Pan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文本框 3"/>
          <p:cNvSpPr/>
          <p:nvPr/>
        </p:nvSpPr>
        <p:spPr>
          <a:xfrm>
            <a:off x="160200" y="2532240"/>
            <a:ext cx="815832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. Store electricity in this mobile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1) Charge the power bank through power ada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oose a regular charging cable, connect the corresponding connector to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rresponding input port of this product, and connect the USB connector to the pow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apter of your mobile phone. The LED indicator light flashes during charging. After 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harging, the 4 LED power indicator lights are always on. Please stop. Pow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2) Charge the power bank through sun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ut the power bank's solar panel under the sunlight's vertical irradiation or sun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nvironment (Avoid high temperature, battery may damaged under high temperat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dition), the power bank will charge itself by absorbing the sunlight, the solar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cator become green at this moment, that means the power banks is being charged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nl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TextBox 1"/>
          <p:cNvSpPr/>
          <p:nvPr/>
        </p:nvSpPr>
        <p:spPr>
          <a:xfrm>
            <a:off x="205560" y="320760"/>
            <a:ext cx="505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nstructions for u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 A single short press of the switch displays the remaining power of the mobi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4 LED power indicators respectively indicate the battery capacity status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TextBox 1"/>
          <p:cNvSpPr/>
          <p:nvPr/>
        </p:nvSpPr>
        <p:spPr>
          <a:xfrm>
            <a:off x="5182920" y="4322880"/>
            <a:ext cx="3948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⚠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ca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you find any undesirable phenomena such as bulging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kage of the product during use, please stop using it immediate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7" name="图片 1" descr=""/>
          <p:cNvPicPr/>
          <p:nvPr/>
        </p:nvPicPr>
        <p:blipFill>
          <a:blip r:embed="rId1"/>
          <a:stretch/>
        </p:blipFill>
        <p:spPr>
          <a:xfrm>
            <a:off x="195120" y="1171440"/>
            <a:ext cx="4270680" cy="1486080"/>
          </a:xfrm>
          <a:prstGeom prst="rect">
            <a:avLst/>
          </a:prstGeom>
          <a:ln w="0">
            <a:noFill/>
          </a:ln>
        </p:spPr>
      </p:pic>
      <p:pic>
        <p:nvPicPr>
          <p:cNvPr id="6448" name="图片 2" descr=""/>
          <p:cNvPicPr/>
          <p:nvPr/>
        </p:nvPicPr>
        <p:blipFill>
          <a:blip r:embed="rId2"/>
          <a:stretch/>
        </p:blipFill>
        <p:spPr>
          <a:xfrm>
            <a:off x="5273640" y="5045040"/>
            <a:ext cx="36068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TextBox 1"/>
          <p:cNvSpPr/>
          <p:nvPr/>
        </p:nvSpPr>
        <p:spPr>
          <a:xfrm>
            <a:off x="212400" y="320760"/>
            <a:ext cx="53197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 This mobile power supply charges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whether the charging voltage of digital products matches the output voltage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power supp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Power supply for mobile phones, tablets and other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built-in cable or output port of this mobile power supply to charge digital product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ED indicator light will light up. When the digital products are fully charged, please sto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ying power to the digital de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0" name="图片 1" descr=""/>
          <p:cNvPicPr/>
          <p:nvPr/>
        </p:nvPicPr>
        <p:blipFill>
          <a:blip r:embed="rId1"/>
          <a:stretch/>
        </p:blipFill>
        <p:spPr>
          <a:xfrm>
            <a:off x="501480" y="2209680"/>
            <a:ext cx="5239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TextBox 1"/>
          <p:cNvSpPr/>
          <p:nvPr/>
        </p:nvSpPr>
        <p:spPr>
          <a:xfrm>
            <a:off x="195120" y="320760"/>
            <a:ext cx="7240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) Power supply for wirelessly charged digital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ly place the digital product that supports wireless charging in the magnetic wirel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ing area, and fit it closely with the digital product to automatically enter the char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. When the digital product is fully charged, please stop powering the digital dev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TextBox 1"/>
          <p:cNvSpPr/>
          <p:nvPr/>
        </p:nvSpPr>
        <p:spPr>
          <a:xfrm>
            <a:off x="279360" y="3240000"/>
            <a:ext cx="598968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ireless charger is not compatible with non-Magsafe phone cases, such as Otterb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ender phone ca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adapters with outputs below 5V/1A (5W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wireless chargers to charge is more convenient than using wired chargers, but 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ited by current wireless technology. Therefore, charging speed is slower than wi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temperature will reduce the charging speed and limit the power. This is a probl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occurs with all wireless chargers. It is recommended to charge the device in 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vironment with a temperature below 25℃/77℉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osition of the mobile phone protective case and the device on the wireless char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affect the charging speed. The further away from the center of the wireless charger,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ower the charging spe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3" name="图片 1" descr=""/>
          <p:cNvPicPr/>
          <p:nvPr/>
        </p:nvPicPr>
        <p:blipFill>
          <a:blip r:embed="rId1"/>
          <a:stretch/>
        </p:blipFill>
        <p:spPr>
          <a:xfrm>
            <a:off x="449280" y="1027080"/>
            <a:ext cx="4017960" cy="2127240"/>
          </a:xfrm>
          <a:prstGeom prst="rect">
            <a:avLst/>
          </a:prstGeom>
          <a:ln w="0">
            <a:noFill/>
          </a:ln>
        </p:spPr>
      </p:pic>
      <p:sp>
        <p:nvSpPr>
          <p:cNvPr id="6454" name="TextBox 1"/>
          <p:cNvSpPr/>
          <p:nvPr/>
        </p:nvSpPr>
        <p:spPr>
          <a:xfrm>
            <a:off x="279360" y="5457960"/>
            <a:ext cx="5989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Noti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the power of this mobile power supply is too low, the battery indicator light flash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power output is disabl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TextBox 1"/>
          <p:cNvSpPr/>
          <p:nvPr/>
        </p:nvSpPr>
        <p:spPr>
          <a:xfrm>
            <a:off x="195120" y="320760"/>
            <a:ext cx="669636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■ </a:t>
            </a:r>
            <a:r>
              <a:rPr b="0" lang="en-US" sz="1200" spc="-1" strike="noStrike">
                <a:solidFill>
                  <a:srgbClr val="ed7d31"/>
                </a:solidFill>
                <a:latin typeface="Arial"/>
              </a:rPr>
              <a:t>Important safety instruction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using this product, it is important to take basic precautions, includ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this product in a cool and dry pla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store this product in a high temperature or humid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a power supply or charger not recommended or sold by the manufacturer of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may result in a risk of fire or personal 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ng temperature should be between 32 to 104°F (0 to 40°C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disassemble the product. If this product requires service or repair, please s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fied repair personnel. Improper reassembly may result in risk of fire or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j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is product is not used for a long time, it should be charged and discharged eve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e mont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oduct may generate heat while charging. This is normal and nothing to wor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 normal operating conditions, battery performance will gradually decline ov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ye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expose the product to fire or high tempera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not use harmful chemicals or detergents to clean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per use, dropping or excessive force may cause damage to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sposing of used batteries, please separate batteries with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chemical syst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note that a discharged battery may cause fire or smok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ion: There is a risk of explosion if the battery is replaced with the wrong typ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ning: Batteries (battery pack or installed) must not be exposed to excessive hea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sunlight or fi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ttery may explode or leak flammable liquid or gas under extremely low press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TextBox 1"/>
          <p:cNvSpPr/>
          <p:nvPr/>
        </p:nvSpPr>
        <p:spPr>
          <a:xfrm>
            <a:off x="279360" y="4665600"/>
            <a:ext cx="5989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⚠ </a:t>
            </a:r>
            <a:r>
              <a:rPr b="1" lang="en-US" sz="1000" spc="-1" strike="noStrike">
                <a:solidFill>
                  <a:srgbClr val="ed7d31"/>
                </a:solidFill>
                <a:latin typeface="Arial"/>
              </a:rPr>
              <a:t>Warn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is product in accordance with the enclosed instructions. Ignoring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ructions may cause the product to catch fire or other damage. Keep th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out of the reach of childr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矩形 1"/>
          <p:cNvSpPr/>
          <p:nvPr/>
        </p:nvSpPr>
        <p:spPr>
          <a:xfrm>
            <a:off x="378000" y="5398920"/>
            <a:ext cx="4603680" cy="1374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8" name="图片 3" descr=""/>
          <p:cNvPicPr/>
          <p:nvPr/>
        </p:nvPicPr>
        <p:blipFill>
          <a:blip r:embed="rId1"/>
          <a:stretch/>
        </p:blipFill>
        <p:spPr>
          <a:xfrm>
            <a:off x="495360" y="5511960"/>
            <a:ext cx="660240" cy="811080"/>
          </a:xfrm>
          <a:prstGeom prst="rect">
            <a:avLst/>
          </a:prstGeom>
          <a:ln w="0">
            <a:noFill/>
          </a:ln>
        </p:spPr>
      </p:pic>
      <p:sp>
        <p:nvSpPr>
          <p:cNvPr id="6459" name="文本框 4"/>
          <p:cNvSpPr/>
          <p:nvPr/>
        </p:nvSpPr>
        <p:spPr>
          <a:xfrm>
            <a:off x="1378080" y="5572080"/>
            <a:ext cx="3508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ymbol means that the product must not be disp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as domestic waste, and should be handed over to 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priate collection center for recycl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er disposal and recycling help protect na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s, human health and the environment. 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文本框 5"/>
          <p:cNvSpPr/>
          <p:nvPr/>
        </p:nvSpPr>
        <p:spPr>
          <a:xfrm>
            <a:off x="378000" y="6375240"/>
            <a:ext cx="450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municipality for more information on how to dispose of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ycle this produ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LENOVO</cp:lastModifiedBy>
  <dcterms:modified xsi:type="dcterms:W3CDTF">2024-07-09T10:54:5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0B22E99353D4A72A54DA234F32AC15E_12</vt:lpwstr>
  </property>
  <property fmtid="{D5CDD505-2E9C-101B-9397-08002B2CF9AE}" pid="3" name="KSOProductBuildVer">
    <vt:lpwstr>2052-12.1.0.17147</vt:lpwstr>
  </property>
</Properties>
</file>